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gif" ContentType="image/gif"/>
  <Override PartName="/ppt/media/image20.png" ContentType="image/png"/>
  <Override PartName="/ppt/media/image18.wmf" ContentType="image/x-wmf"/>
  <Override PartName="/ppt/media/image2.jpeg" ContentType="image/jpeg"/>
  <Override PartName="/ppt/media/image19.wmf" ContentType="image/x-wmf"/>
  <Override PartName="/ppt/media/image29.gif" ContentType="image/gif"/>
  <Override PartName="/ppt/media/image17.wmf" ContentType="image/x-wmf"/>
  <Override PartName="/ppt/media/image28.gif" ContentType="image/gif"/>
  <Override PartName="/ppt/media/image16.wmf" ContentType="image/x-wmf"/>
  <Override PartName="/ppt/media/image26.gif" ContentType="image/gif"/>
  <Override PartName="/ppt/media/image14.wmf" ContentType="image/x-wmf"/>
  <Override PartName="/ppt/media/image15.wmf" ContentType="image/x-wmf"/>
  <Override PartName="/ppt/media/image1.jpeg" ContentType="image/jpeg"/>
  <Override PartName="/ppt/media/image31.gif" ContentType="image/gif"/>
  <Override PartName="/ppt/media/image40.jpeg" ContentType="image/jpeg"/>
  <Override PartName="/ppt/media/image32.gif" ContentType="image/gif"/>
  <Override PartName="/ppt/media/image33.gif" ContentType="image/gif"/>
  <Override PartName="/ppt/media/image36.gif" ContentType="image/gif"/>
  <Override PartName="/ppt/media/image13.wmf" ContentType="image/x-wmf"/>
  <Override PartName="/ppt/media/image25.gif" ContentType="image/gif"/>
  <Override PartName="/ppt/media/image30.gif" ContentType="image/gif"/>
  <Override PartName="/ppt/media/image39.jpeg" ContentType="image/jpeg"/>
  <Override PartName="/ppt/media/image41.wmf" ContentType="image/x-wmf"/>
  <Override PartName="/ppt/media/image42.png" ContentType="image/png"/>
  <Override PartName="/ppt/media/image9.wmf" ContentType="image/x-wmf"/>
  <Override PartName="/ppt/media/image35.gif" ContentType="image/gif"/>
  <Override PartName="/ppt/media/image43.jpeg" ContentType="image/jpeg"/>
  <Override PartName="/ppt/media/image8.wmf" ContentType="image/x-wmf"/>
  <Override PartName="/ppt/media/image12.wmf" ContentType="image/x-wmf"/>
  <Override PartName="/ppt/media/image24.gif" ContentType="image/gif"/>
  <Override PartName="/ppt/media/image27.png" ContentType="image/png"/>
  <Override PartName="/ppt/media/image34.gif" ContentType="image/gif"/>
  <Override PartName="/ppt/media/image7.wmf" ContentType="image/x-wmf"/>
  <Override PartName="/ppt/media/image11.wmf" ContentType="image/x-wmf"/>
  <Override PartName="/ppt/media/image23.gif" ContentType="image/gif"/>
  <Override PartName="/ppt/media/image6.wmf" ContentType="image/x-wmf"/>
  <Override PartName="/ppt/media/image10.wmf" ContentType="image/x-wmf"/>
  <Override PartName="/ppt/media/image22.gif" ContentType="image/gif"/>
  <Override PartName="/ppt/media/image5.wmf" ContentType="image/x-wmf"/>
  <Override PartName="/ppt/media/image37.gif" ContentType="image/gif"/>
  <Override PartName="/ppt/media/image3.wmf" ContentType="image/x-wmf"/>
  <Override PartName="/ppt/media/image4.wmf" ContentType="image/x-wmf"/>
  <Override PartName="/ppt/media/image3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F8F-5682-4C72-9DDE-A4BDB7A3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06476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BEF-8E2E-4E8F-AA79-D093DE90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8AF-DFF2-479D-978C-6842203B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E15-F371-4AEC-A470-DBA35C7A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4B74-BB00-461B-AD9A-846B6114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E3BF-AF1A-485F-83BB-910066E2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60D9-5189-4359-97A6-C224628B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B265-8FF1-4164-928D-ECFE0C24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2BB7-4E51-4498-BAC9-96E95E01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80010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0A5F-A9AC-4C43-B988-EA23BC95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F266-A688-4BA9-B9F1-E19BC4CA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8EE-0EB0-4DBF-A32A-C2B82AF6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12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F06D-0884-4A8E-9830-0C78E093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785B-DAB3-41D5-971A-5DF9D557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06476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3195-B6F8-4DA9-99CA-E94A7FDD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12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6B4A-9DC7-496B-A24C-D88B3547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8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62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8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62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C26A-F33B-445B-8121-00AC09E4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C33-B542-4027-A3C6-7A6D4AF8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2B3-539D-421A-8122-A23A375E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CF8-DEF2-4ECE-9B46-D4C6E3B6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80010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D66-34A5-4CDA-9526-5BECEBDD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49A-5F9D-48F4-A68A-30CA56BC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351-49DE-439C-8B06-89AC8FA9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75F-DD1F-43A9-8CE9-44479883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0BA9-168C-447D-AB99-D00E970AA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3203-3943-47CB-9714-079DA6D38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" Target="slide2.xml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" Target="slide6.xml"/><Relationship Id="rId5" Type="http://schemas.openxmlformats.org/officeDocument/2006/relationships/image" Target="../media/image5.wmf"/><Relationship Id="rId6" Type="http://schemas.openxmlformats.org/officeDocument/2006/relationships/slide" Target="slide7.xml"/><Relationship Id="rId7" Type="http://schemas.openxmlformats.org/officeDocument/2006/relationships/image" Target="../media/image6.wmf"/><Relationship Id="rId8" Type="http://schemas.openxmlformats.org/officeDocument/2006/relationships/slide" Target="slide8.xml"/><Relationship Id="rId9" Type="http://schemas.openxmlformats.org/officeDocument/2006/relationships/image" Target="../media/image7.wmf"/><Relationship Id="rId10" Type="http://schemas.openxmlformats.org/officeDocument/2006/relationships/slide" Target="slide9.xml"/><Relationship Id="rId11" Type="http://schemas.openxmlformats.org/officeDocument/2006/relationships/image" Target="../media/image8.wmf"/><Relationship Id="rId12" Type="http://schemas.openxmlformats.org/officeDocument/2006/relationships/slide" Target="slide10.xml"/><Relationship Id="rId13" Type="http://schemas.openxmlformats.org/officeDocument/2006/relationships/image" Target="../media/image9.wmf"/><Relationship Id="rId14" Type="http://schemas.openxmlformats.org/officeDocument/2006/relationships/slide" Target="slide11.xml"/><Relationship Id="rId15" Type="http://schemas.openxmlformats.org/officeDocument/2006/relationships/image" Target="../media/image10.wmf"/><Relationship Id="rId16" Type="http://schemas.openxmlformats.org/officeDocument/2006/relationships/slide" Target="slide12.xml"/><Relationship Id="rId17" Type="http://schemas.openxmlformats.org/officeDocument/2006/relationships/image" Target="../media/image11.wmf"/><Relationship Id="rId18" Type="http://schemas.openxmlformats.org/officeDocument/2006/relationships/slide" Target="slide13.xml"/><Relationship Id="rId19" Type="http://schemas.openxmlformats.org/officeDocument/2006/relationships/image" Target="../media/image12.wmf"/><Relationship Id="rId20" Type="http://schemas.openxmlformats.org/officeDocument/2006/relationships/slide" Target="slide14.xml"/><Relationship Id="rId21" Type="http://schemas.openxmlformats.org/officeDocument/2006/relationships/image" Target="../media/image13.wmf"/><Relationship Id="rId22" Type="http://schemas.openxmlformats.org/officeDocument/2006/relationships/slide" Target="slide15.xml"/><Relationship Id="rId23" Type="http://schemas.openxmlformats.org/officeDocument/2006/relationships/image" Target="../media/image14.wmf"/><Relationship Id="rId24" Type="http://schemas.openxmlformats.org/officeDocument/2006/relationships/slide" Target="slide16.xml"/><Relationship Id="rId25" Type="http://schemas.openxmlformats.org/officeDocument/2006/relationships/image" Target="../media/image15.wmf"/><Relationship Id="rId26" Type="http://schemas.openxmlformats.org/officeDocument/2006/relationships/slide" Target="slide17.xml"/><Relationship Id="rId27" Type="http://schemas.openxmlformats.org/officeDocument/2006/relationships/image" Target="../media/image16.wmf"/><Relationship Id="rId28" Type="http://schemas.openxmlformats.org/officeDocument/2006/relationships/slide" Target="slide18.xml"/><Relationship Id="rId29" Type="http://schemas.openxmlformats.org/officeDocument/2006/relationships/image" Target="../media/image17.wmf"/><Relationship Id="rId30" Type="http://schemas.openxmlformats.org/officeDocument/2006/relationships/slide" Target="slide19.xml"/><Relationship Id="rId31" Type="http://schemas.openxmlformats.org/officeDocument/2006/relationships/image" Target="../media/image18.wmf"/><Relationship Id="rId32" Type="http://schemas.openxmlformats.org/officeDocument/2006/relationships/slide" Target="slide20.xml"/><Relationship Id="rId33" Type="http://schemas.openxmlformats.org/officeDocument/2006/relationships/image" Target="../media/image19.wmf"/><Relationship Id="rId34" Type="http://schemas.openxmlformats.org/officeDocument/2006/relationships/slide" Target="slide4.xml"/><Relationship Id="rId35" Type="http://schemas.openxmlformats.org/officeDocument/2006/relationships/slide" Target="slide5.xml"/><Relationship Id="rId36" Type="http://schemas.openxmlformats.org/officeDocument/2006/relationships/slide" Target="slide3.xml"/><Relationship Id="rId3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8.xml"/><Relationship Id="rId8" Type="http://schemas.openxmlformats.org/officeDocument/2006/relationships/slide" Target="slide29.xml"/><Relationship Id="rId9" Type="http://schemas.openxmlformats.org/officeDocument/2006/relationships/slide" Target="slide30.xml"/><Relationship Id="rId10" Type="http://schemas.openxmlformats.org/officeDocument/2006/relationships/slide" Target="slide31.xml"/><Relationship Id="rId11" Type="http://schemas.openxmlformats.org/officeDocument/2006/relationships/slide" Target="slide32.xml"/><Relationship Id="rId12" Type="http://schemas.openxmlformats.org/officeDocument/2006/relationships/slide" Target="slide33.xml"/><Relationship Id="rId13" Type="http://schemas.openxmlformats.org/officeDocument/2006/relationships/slide" Target="slide34.xml"/><Relationship Id="rId14" Type="http://schemas.openxmlformats.org/officeDocument/2006/relationships/slide" Target="slide35.xml"/><Relationship Id="rId15" Type="http://schemas.openxmlformats.org/officeDocument/2006/relationships/slide" Target="slide36.xml"/><Relationship Id="rId16" Type="http://schemas.openxmlformats.org/officeDocument/2006/relationships/slide" Target="slide37.xml"/><Relationship Id="rId17" Type="http://schemas.openxmlformats.org/officeDocument/2006/relationships/slide" Target="slide38.xml"/><Relationship Id="rId18" Type="http://schemas.openxmlformats.org/officeDocument/2006/relationships/slide" Target="slide39.xml"/><Relationship Id="rId19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58.xml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hyperlink" Target="http://bp1.blogger.com/_JmsnoOMVhh4/R0o9n4R2tSI/AAAAAAAAAZU/VUFo6CySiOs/s400/bsilvia_grunge_stars_photoshop_brush.jpg" TargetMode="External"/><Relationship Id="rId4" Type="http://schemas.openxmlformats.org/officeDocument/2006/relationships/image" Target="../media/image40.jpe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29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2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3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7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0.xml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slide" Target="slide63.xml"/><Relationship Id="rId6" Type="http://schemas.openxmlformats.org/officeDocument/2006/relationships/slide" Target="slide64.xml"/><Relationship Id="rId7" Type="http://schemas.openxmlformats.org/officeDocument/2006/relationships/slide" Target="slide65.xml"/><Relationship Id="rId8" Type="http://schemas.openxmlformats.org/officeDocument/2006/relationships/slide" Target="slide66.xml"/><Relationship Id="rId9" Type="http://schemas.openxmlformats.org/officeDocument/2006/relationships/slide" Target="slide67.xml"/><Relationship Id="rId10" Type="http://schemas.openxmlformats.org/officeDocument/2006/relationships/slide" Target="slide68.xml"/><Relationship Id="rId11" Type="http://schemas.openxmlformats.org/officeDocument/2006/relationships/slide" Target="slide69.xml"/><Relationship Id="rId12" Type="http://schemas.openxmlformats.org/officeDocument/2006/relationships/slide" Target="slide70.xml"/><Relationship Id="rId13" Type="http://schemas.openxmlformats.org/officeDocument/2006/relationships/slide" Target="slide71.xml"/><Relationship Id="rId14" Type="http://schemas.openxmlformats.org/officeDocument/2006/relationships/slide" Target="slide72.xml"/><Relationship Id="rId15" Type="http://schemas.openxmlformats.org/officeDocument/2006/relationships/slide" Target="slide73.xml"/><Relationship Id="rId16" Type="http://schemas.openxmlformats.org/officeDocument/2006/relationships/slide" Target="slide74.xml"/><Relationship Id="rId17" Type="http://schemas.openxmlformats.org/officeDocument/2006/relationships/slide" Target="slide75.xml"/><Relationship Id="rId18" Type="http://schemas.openxmlformats.org/officeDocument/2006/relationships/slide" Target="slide76.xml"/><Relationship Id="rId1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" Target="slide11.xml"/><Relationship Id="rId4" Type="http://schemas.openxmlformats.org/officeDocument/2006/relationships/image" Target="../media/image10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" Target="slide7.xml"/><Relationship Id="rId4" Type="http://schemas.openxmlformats.org/officeDocument/2006/relationships/image" Target="../media/image6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slideLayout" Target="../slideLayouts/slideLayout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3.wmf"/><Relationship Id="rId4" Type="http://schemas.openxmlformats.org/officeDocument/2006/relationships/slide" Target=""/><Relationship Id="rId5" Type="http://schemas.openxmlformats.org/officeDocument/2006/relationships/slideLayout" Target="../slideLayouts/slideLayout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" Target="slide12.xml"/><Relationship Id="rId4" Type="http://schemas.openxmlformats.org/officeDocument/2006/relationships/image" Target="../media/image11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" Target="slide10.xml"/><Relationship Id="rId4" Type="http://schemas.openxmlformats.org/officeDocument/2006/relationships/image" Target="../media/image9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" Target="slide18.xml"/><Relationship Id="rId4" Type="http://schemas.openxmlformats.org/officeDocument/2006/relationships/image" Target="../media/image17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" Target="slide20.xml"/><Relationship Id="rId4" Type="http://schemas.openxmlformats.org/officeDocument/2006/relationships/image" Target="../media/image19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" Target="slide15.xml"/><Relationship Id="rId4" Type="http://schemas.openxmlformats.org/officeDocument/2006/relationships/image" Target="../media/image14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slide" Target="slide17.xml"/><Relationship Id="rId4" Type="http://schemas.openxmlformats.org/officeDocument/2006/relationships/image" Target="../media/image16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slide" Target="slide13.xml"/><Relationship Id="rId4" Type="http://schemas.openxmlformats.org/officeDocument/2006/relationships/image" Target="../media/image12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" Target="slide9.xml"/><Relationship Id="rId4" Type="http://schemas.openxmlformats.org/officeDocument/2006/relationships/image" Target="../media/image8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" Target="slide6.xml"/><Relationship Id="rId4" Type="http://schemas.openxmlformats.org/officeDocument/2006/relationships/image" Target="../media/image5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slide" Target="slide16.xml"/><Relationship Id="rId4" Type="http://schemas.openxmlformats.org/officeDocument/2006/relationships/image" Target="../media/image15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" Target="slide8.xml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" Target="slide14.xml"/><Relationship Id="rId4" Type="http://schemas.openxmlformats.org/officeDocument/2006/relationships/image" Target="../media/image13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gif"/><Relationship Id="rId3" Type="http://schemas.openxmlformats.org/officeDocument/2006/relationships/slide" Target="slide19.xml"/><Relationship Id="rId4" Type="http://schemas.openxmlformats.org/officeDocument/2006/relationships/image" Target="../media/image18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hyperlink" Target="http://bp1.blogger.com/_JmsnoOMVhh4/R0o9n4R2tSI/AAAAAAAAAZU/VUFo6CySiOs/s400/bsilvia_grunge_stars_photoshop_brush.jpg" TargetMode="External"/><Relationship Id="rId4" Type="http://schemas.openxmlformats.org/officeDocument/2006/relationships/image" Target="../media/image40.jpeg"/><Relationship Id="rId5" Type="http://schemas.openxmlformats.org/officeDocument/2006/relationships/slide" Target="slide59.xml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0.xml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2.xml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3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5.xm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8.xml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9.xml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Presidents of the United States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3581280"/>
            <a:ext cx="7010280" cy="10670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ulie Hranic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dine Ber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William Howard Taf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t stuck in his batht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a Supreme Court Ju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th presiden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in the bathtub, playing with the rubber du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86200" y="4495680"/>
            <a:ext cx="1658880" cy="16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440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alvin Coolidge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d “Silent C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th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who was riding the horse in the cowboy outf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733920" y="4589640"/>
            <a:ext cx="1928520" cy="1712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648320" y="541008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407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Franklin D. Roosevel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y e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ered from polio and used a wheelch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ady - Eleanor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ught the country out of the Great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who was unhappily eating broccoli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483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4800600"/>
            <a:ext cx="156816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359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John F. Kennedy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d a wounded soldiers life in the navy during WW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ed young people to get involved in 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assin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th presiden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is nose was made out of a flipp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49568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4952880"/>
            <a:ext cx="135576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858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Richard Nixo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ed crimes in office and lied about them to the people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gned from the White Ho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th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whose face was created by using a tape record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114800" y="56386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81280" y="5105520"/>
            <a:ext cx="1638360" cy="13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68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erald Ford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r football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president after Nixon re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d dignity to honor to the Whit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th presiden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is face was made out of ski equip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80060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4800600"/>
            <a:ext cx="1644840" cy="16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584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Jimmy Carter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d in helping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d toward equal rights for minorities and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th presiden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sitting on top of a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581280" y="5943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76720" y="4419720"/>
            <a:ext cx="2087280" cy="183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6260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Ronald Reaga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movie star to becom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inated the first woman Supreme Court 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th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with the chimpanze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86200" y="4724280"/>
            <a:ext cx="1530360" cy="14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37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eorge Bush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ed to dance in publ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est pilot in the Navy to receive his w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st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dancing with his wif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72428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657600" y="4495680"/>
            <a:ext cx="1819440" cy="161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4787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Bill Clinto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d to talk and e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d his hand a lot in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nd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eating apple pi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352680" y="4343400"/>
            <a:ext cx="2194200" cy="14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0478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54380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0096"/>
                </a:solidFill>
                <a:latin typeface="Arial"/>
              </a:rPr>
              <a:t>The Presidential Class </a:t>
            </a:r>
            <a:br>
              <a:rPr sz="3200"/>
            </a:br>
            <a:r>
              <a:rPr b="1" lang="en-US" sz="3200" spc="-1" strike="noStrike">
                <a:solidFill>
                  <a:srgbClr val="360096"/>
                </a:solidFill>
                <a:latin typeface="Arial"/>
              </a:rPr>
              <a:t>1789-2008</a:t>
            </a:r>
            <a:endParaRPr b="1" lang="en-US" sz="3200" spc="-1" strike="noStrike">
              <a:solidFill>
                <a:srgbClr val="360096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1245960" cy="1017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133720" y="1523880"/>
            <a:ext cx="1218960" cy="1027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05320" y="1523880"/>
            <a:ext cx="1218960" cy="1027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876920" y="1523880"/>
            <a:ext cx="1218960" cy="1027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48520" y="1523880"/>
            <a:ext cx="1218960" cy="10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620120" y="1523880"/>
            <a:ext cx="1218960" cy="1067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62120" y="32004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133720" y="3200400"/>
            <a:ext cx="1218960" cy="1084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505320" y="32004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876920" y="32004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248520" y="3200400"/>
            <a:ext cx="1218960" cy="1052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7620120" y="32004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762120" y="48006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2133720" y="48006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3505320" y="48006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876920" y="48006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6248520" y="4800600"/>
            <a:ext cx="121896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120" y="25909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25909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25909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5909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25909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lysses S. Gr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25909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odore Rooseve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3434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lliam Howard T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43434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vin Cooli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43434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lin D. Rooseve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43434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F.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43434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43434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ald F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59436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immy Car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59436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59436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orge Bu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59436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 Clin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59436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orge W. Bu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34" action="ppaction://hlinksldjump"/>
          </p:cNvPr>
          <p:cNvSpPr/>
          <p:nvPr/>
        </p:nvSpPr>
        <p:spPr>
          <a:xfrm>
            <a:off x="762120" y="1523880"/>
            <a:ext cx="1218960" cy="99072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74" h="21600">
                <a:moveTo>
                  <a:pt x="0" y="0"/>
                </a:moveTo>
                <a:lnTo>
                  <a:pt x="26574" y="0"/>
                </a:lnTo>
                <a:lnTo>
                  <a:pt x="26574" y="21600"/>
                </a:lnTo>
                <a:lnTo>
                  <a:pt x="0" y="21600"/>
                </a:lnTo>
                <a:close/>
              </a:path>
              <a:path fill="lightenLess" w="26574" h="21600">
                <a:moveTo>
                  <a:pt x="0" y="0"/>
                </a:moveTo>
                <a:lnTo>
                  <a:pt x="26574" y="0"/>
                </a:lnTo>
                <a:lnTo>
                  <a:pt x="25174" y="1400"/>
                </a:lnTo>
                <a:lnTo>
                  <a:pt x="1400" y="1400"/>
                </a:lnTo>
                <a:close/>
              </a:path>
              <a:path fill="darken" w="26574" h="21600">
                <a:moveTo>
                  <a:pt x="26574" y="0"/>
                </a:moveTo>
                <a:lnTo>
                  <a:pt x="26574" y="21600"/>
                </a:lnTo>
                <a:lnTo>
                  <a:pt x="25174" y="20200"/>
                </a:lnTo>
                <a:lnTo>
                  <a:pt x="25174" y="1400"/>
                </a:lnTo>
                <a:close/>
              </a:path>
              <a:path fill="darkenLess" w="26574" h="21600">
                <a:moveTo>
                  <a:pt x="26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4" y="20200"/>
                </a:lnTo>
                <a:close/>
              </a:path>
              <a:path fill="lighten" w="26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35" action="ppaction://hlinksldjump"/>
          </p:cNvPr>
          <p:cNvSpPr/>
          <p:nvPr/>
        </p:nvSpPr>
        <p:spPr>
          <a:xfrm>
            <a:off x="2209680" y="15238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36" action="ppaction://hlinksldjump"/>
          </p:cNvPr>
          <p:cNvSpPr/>
          <p:nvPr/>
        </p:nvSpPr>
        <p:spPr>
          <a:xfrm>
            <a:off x="7696080" y="49528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80ff"/>
              </a:gs>
              <a:gs pos="50000">
                <a:srgbClr val="ff0000"/>
              </a:gs>
              <a:gs pos="100000">
                <a:srgbClr val="0080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F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G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eorge W. Bush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resident to own a baseball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 during the attacks on the World Trade Center on 9/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rd Presiden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had a hot dog for a no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03848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352680" y="4648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45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Name that Presiden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quest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 and pick th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get it correct move on to the next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get it incorrect go back and pick the correc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Fu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12400" y="56386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3809880" y="56386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S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S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1640" y="182880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E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we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hir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our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if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Six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Seven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685800" y="1752480"/>
            <a:ext cx="2819520" cy="381240"/>
          </a:xfrm>
          <a:custGeom>
            <a:avLst/>
            <a:gdLst>
              <a:gd name="textAreaLeft" fmla="*/ 24480 w 2819520"/>
              <a:gd name="textAreaRight" fmla="*/ 2795040 w 2819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9616" h="21600">
                <a:moveTo>
                  <a:pt x="0" y="0"/>
                </a:moveTo>
                <a:lnTo>
                  <a:pt x="159616" y="0"/>
                </a:lnTo>
                <a:lnTo>
                  <a:pt x="159616" y="21600"/>
                </a:lnTo>
                <a:lnTo>
                  <a:pt x="0" y="21600"/>
                </a:lnTo>
                <a:close/>
              </a:path>
              <a:path fill="lightenLess" w="159616" h="21600">
                <a:moveTo>
                  <a:pt x="0" y="0"/>
                </a:moveTo>
                <a:lnTo>
                  <a:pt x="159616" y="0"/>
                </a:lnTo>
                <a:lnTo>
                  <a:pt x="158216" y="1400"/>
                </a:lnTo>
                <a:lnTo>
                  <a:pt x="1400" y="1400"/>
                </a:lnTo>
                <a:close/>
              </a:path>
              <a:path fill="darken" w="159616" h="21600">
                <a:moveTo>
                  <a:pt x="159616" y="0"/>
                </a:moveTo>
                <a:lnTo>
                  <a:pt x="159616" y="21600"/>
                </a:lnTo>
                <a:lnTo>
                  <a:pt x="158216" y="20200"/>
                </a:lnTo>
                <a:lnTo>
                  <a:pt x="158216" y="1400"/>
                </a:lnTo>
                <a:close/>
              </a:path>
              <a:path fill="darkenLess" w="159616" h="21600">
                <a:moveTo>
                  <a:pt x="159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8216" y="20200"/>
                </a:lnTo>
                <a:close/>
              </a:path>
              <a:path fill="lighten" w="159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685800" y="2286000"/>
            <a:ext cx="2819520" cy="304920"/>
          </a:xfrm>
          <a:custGeom>
            <a:avLst/>
            <a:gdLst>
              <a:gd name="textAreaLeft" fmla="*/ 19440 w 2819520"/>
              <a:gd name="textAreaRight" fmla="*/ 2800080 w 2819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99520" h="21600">
                <a:moveTo>
                  <a:pt x="0" y="0"/>
                </a:moveTo>
                <a:lnTo>
                  <a:pt x="199520" y="0"/>
                </a:lnTo>
                <a:lnTo>
                  <a:pt x="199520" y="21600"/>
                </a:lnTo>
                <a:lnTo>
                  <a:pt x="0" y="21600"/>
                </a:lnTo>
                <a:close/>
              </a:path>
              <a:path fill="lightenLess" w="199520" h="21600">
                <a:moveTo>
                  <a:pt x="0" y="0"/>
                </a:moveTo>
                <a:lnTo>
                  <a:pt x="199520" y="0"/>
                </a:lnTo>
                <a:lnTo>
                  <a:pt x="198120" y="1400"/>
                </a:lnTo>
                <a:lnTo>
                  <a:pt x="1400" y="1400"/>
                </a:lnTo>
                <a:close/>
              </a:path>
              <a:path fill="darken" w="199520" h="21600">
                <a:moveTo>
                  <a:pt x="199520" y="0"/>
                </a:moveTo>
                <a:lnTo>
                  <a:pt x="199520" y="21600"/>
                </a:lnTo>
                <a:lnTo>
                  <a:pt x="198120" y="20200"/>
                </a:lnTo>
                <a:lnTo>
                  <a:pt x="198120" y="1400"/>
                </a:lnTo>
                <a:close/>
              </a:path>
              <a:path fill="darkenLess" w="199520" h="21600">
                <a:moveTo>
                  <a:pt x="1995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120" y="20200"/>
                </a:lnTo>
                <a:close/>
              </a:path>
              <a:path fill="lighten" w="1995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4" action="ppaction://hlinksldjump"/>
          </p:cNvPr>
          <p:cNvSpPr/>
          <p:nvPr/>
        </p:nvSpPr>
        <p:spPr>
          <a:xfrm>
            <a:off x="685800" y="2819520"/>
            <a:ext cx="3252960" cy="380880"/>
          </a:xfrm>
          <a:custGeom>
            <a:avLst/>
            <a:gdLst>
              <a:gd name="textAreaLeft" fmla="*/ 24480 w 3252960"/>
              <a:gd name="textAreaRight" fmla="*/ 3228480 w 3252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84324" h="21600">
                <a:moveTo>
                  <a:pt x="0" y="0"/>
                </a:moveTo>
                <a:lnTo>
                  <a:pt x="184324" y="0"/>
                </a:lnTo>
                <a:lnTo>
                  <a:pt x="184324" y="21600"/>
                </a:lnTo>
                <a:lnTo>
                  <a:pt x="0" y="21600"/>
                </a:lnTo>
                <a:close/>
              </a:path>
              <a:path fill="lightenLess" w="184324" h="21600">
                <a:moveTo>
                  <a:pt x="0" y="0"/>
                </a:moveTo>
                <a:lnTo>
                  <a:pt x="184324" y="0"/>
                </a:lnTo>
                <a:lnTo>
                  <a:pt x="182924" y="1400"/>
                </a:lnTo>
                <a:lnTo>
                  <a:pt x="1400" y="1400"/>
                </a:lnTo>
                <a:close/>
              </a:path>
              <a:path fill="darken" w="184324" h="21600">
                <a:moveTo>
                  <a:pt x="184324" y="0"/>
                </a:moveTo>
                <a:lnTo>
                  <a:pt x="184324" y="21600"/>
                </a:lnTo>
                <a:lnTo>
                  <a:pt x="182924" y="20200"/>
                </a:lnTo>
                <a:lnTo>
                  <a:pt x="182924" y="1400"/>
                </a:lnTo>
                <a:close/>
              </a:path>
              <a:path fill="darkenLess" w="184324" h="21600">
                <a:moveTo>
                  <a:pt x="184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2924" y="20200"/>
                </a:lnTo>
                <a:close/>
              </a:path>
              <a:path fill="lighten" w="184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5" action="ppaction://hlinksldjump"/>
          </p:cNvPr>
          <p:cNvSpPr/>
          <p:nvPr/>
        </p:nvSpPr>
        <p:spPr>
          <a:xfrm>
            <a:off x="685800" y="3276720"/>
            <a:ext cx="2895480" cy="380880"/>
          </a:xfrm>
          <a:custGeom>
            <a:avLst/>
            <a:gdLst>
              <a:gd name="textAreaLeft" fmla="*/ 24480 w 2895480"/>
              <a:gd name="textAreaRight" fmla="*/ 2871000 w 2895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64070" h="21600">
                <a:moveTo>
                  <a:pt x="0" y="0"/>
                </a:moveTo>
                <a:lnTo>
                  <a:pt x="164070" y="0"/>
                </a:lnTo>
                <a:lnTo>
                  <a:pt x="164070" y="21600"/>
                </a:lnTo>
                <a:lnTo>
                  <a:pt x="0" y="21600"/>
                </a:lnTo>
                <a:close/>
              </a:path>
              <a:path fill="lightenLess" w="164070" h="21600">
                <a:moveTo>
                  <a:pt x="0" y="0"/>
                </a:moveTo>
                <a:lnTo>
                  <a:pt x="164070" y="0"/>
                </a:lnTo>
                <a:lnTo>
                  <a:pt x="162670" y="1400"/>
                </a:lnTo>
                <a:lnTo>
                  <a:pt x="1400" y="1400"/>
                </a:lnTo>
                <a:close/>
              </a:path>
              <a:path fill="darken" w="164070" h="21600">
                <a:moveTo>
                  <a:pt x="164070" y="0"/>
                </a:moveTo>
                <a:lnTo>
                  <a:pt x="164070" y="21600"/>
                </a:lnTo>
                <a:lnTo>
                  <a:pt x="162670" y="20200"/>
                </a:lnTo>
                <a:lnTo>
                  <a:pt x="162670" y="1400"/>
                </a:lnTo>
                <a:close/>
              </a:path>
              <a:path fill="darkenLess" w="164070" h="21600">
                <a:moveTo>
                  <a:pt x="164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2670" y="20200"/>
                </a:lnTo>
                <a:close/>
              </a:path>
              <a:path fill="lighten" w="164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6" action="ppaction://hlinksldjump"/>
          </p:cNvPr>
          <p:cNvSpPr/>
          <p:nvPr/>
        </p:nvSpPr>
        <p:spPr>
          <a:xfrm>
            <a:off x="685800" y="3809880"/>
            <a:ext cx="2666880" cy="381240"/>
          </a:xfrm>
          <a:custGeom>
            <a:avLst/>
            <a:gdLst>
              <a:gd name="textAreaLeft" fmla="*/ 24480 w 2666880"/>
              <a:gd name="textAreaRight" fmla="*/ 2642400 w 2666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0976" h="21600">
                <a:moveTo>
                  <a:pt x="0" y="0"/>
                </a:moveTo>
                <a:lnTo>
                  <a:pt x="150976" y="0"/>
                </a:lnTo>
                <a:lnTo>
                  <a:pt x="150976" y="21600"/>
                </a:lnTo>
                <a:lnTo>
                  <a:pt x="0" y="21600"/>
                </a:lnTo>
                <a:close/>
              </a:path>
              <a:path fill="lightenLess" w="150976" h="21600">
                <a:moveTo>
                  <a:pt x="0" y="0"/>
                </a:moveTo>
                <a:lnTo>
                  <a:pt x="150976" y="0"/>
                </a:lnTo>
                <a:lnTo>
                  <a:pt x="149576" y="1400"/>
                </a:lnTo>
                <a:lnTo>
                  <a:pt x="1400" y="1400"/>
                </a:lnTo>
                <a:close/>
              </a:path>
              <a:path fill="darken" w="150976" h="21600">
                <a:moveTo>
                  <a:pt x="150976" y="0"/>
                </a:moveTo>
                <a:lnTo>
                  <a:pt x="150976" y="21600"/>
                </a:lnTo>
                <a:lnTo>
                  <a:pt x="149576" y="20200"/>
                </a:lnTo>
                <a:lnTo>
                  <a:pt x="149576" y="1400"/>
                </a:lnTo>
                <a:close/>
              </a:path>
              <a:path fill="darkenLess" w="150976" h="21600">
                <a:moveTo>
                  <a:pt x="150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576" y="20200"/>
                </a:lnTo>
                <a:close/>
              </a:path>
              <a:path fill="lighten" w="150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7" action="ppaction://hlinksldjump"/>
          </p:cNvPr>
          <p:cNvSpPr/>
          <p:nvPr/>
        </p:nvSpPr>
        <p:spPr>
          <a:xfrm>
            <a:off x="685800" y="4343400"/>
            <a:ext cx="2514600" cy="380880"/>
          </a:xfrm>
          <a:custGeom>
            <a:avLst/>
            <a:gdLst>
              <a:gd name="textAreaLeft" fmla="*/ 24480 w 2514600"/>
              <a:gd name="textAreaRight" fmla="*/ 2490120 w 2514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42491" h="21600">
                <a:moveTo>
                  <a:pt x="0" y="0"/>
                </a:moveTo>
                <a:lnTo>
                  <a:pt x="142491" y="0"/>
                </a:lnTo>
                <a:lnTo>
                  <a:pt x="142491" y="21600"/>
                </a:lnTo>
                <a:lnTo>
                  <a:pt x="0" y="21600"/>
                </a:lnTo>
                <a:close/>
              </a:path>
              <a:path fill="lightenLess" w="142491" h="21600">
                <a:moveTo>
                  <a:pt x="0" y="0"/>
                </a:moveTo>
                <a:lnTo>
                  <a:pt x="142491" y="0"/>
                </a:lnTo>
                <a:lnTo>
                  <a:pt x="141091" y="1400"/>
                </a:lnTo>
                <a:lnTo>
                  <a:pt x="1400" y="1400"/>
                </a:lnTo>
                <a:close/>
              </a:path>
              <a:path fill="darken" w="142491" h="21600">
                <a:moveTo>
                  <a:pt x="142491" y="0"/>
                </a:moveTo>
                <a:lnTo>
                  <a:pt x="142491" y="21600"/>
                </a:lnTo>
                <a:lnTo>
                  <a:pt x="141091" y="20200"/>
                </a:lnTo>
                <a:lnTo>
                  <a:pt x="141091" y="1400"/>
                </a:lnTo>
                <a:close/>
              </a:path>
              <a:path fill="darkenLess" w="142491" h="21600">
                <a:moveTo>
                  <a:pt x="142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091" y="20200"/>
                </a:lnTo>
                <a:close/>
              </a:path>
              <a:path fill="lighten" w="142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8" action="ppaction://hlinksldjump"/>
          </p:cNvPr>
          <p:cNvSpPr/>
          <p:nvPr/>
        </p:nvSpPr>
        <p:spPr>
          <a:xfrm>
            <a:off x="685800" y="4876920"/>
            <a:ext cx="2971800" cy="304560"/>
          </a:xfrm>
          <a:custGeom>
            <a:avLst/>
            <a:gdLst>
              <a:gd name="textAreaLeft" fmla="*/ 19440 w 2971800"/>
              <a:gd name="textAreaRight" fmla="*/ 2952360 w 2971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0543" h="21600">
                <a:moveTo>
                  <a:pt x="0" y="0"/>
                </a:moveTo>
                <a:lnTo>
                  <a:pt x="210543" y="0"/>
                </a:lnTo>
                <a:lnTo>
                  <a:pt x="210543" y="21600"/>
                </a:lnTo>
                <a:lnTo>
                  <a:pt x="0" y="21600"/>
                </a:lnTo>
                <a:close/>
              </a:path>
              <a:path fill="lightenLess" w="210543" h="21600">
                <a:moveTo>
                  <a:pt x="0" y="0"/>
                </a:moveTo>
                <a:lnTo>
                  <a:pt x="210543" y="0"/>
                </a:lnTo>
                <a:lnTo>
                  <a:pt x="209143" y="1400"/>
                </a:lnTo>
                <a:lnTo>
                  <a:pt x="1400" y="1400"/>
                </a:lnTo>
                <a:close/>
              </a:path>
              <a:path fill="darken" w="210543" h="21600">
                <a:moveTo>
                  <a:pt x="210543" y="0"/>
                </a:moveTo>
                <a:lnTo>
                  <a:pt x="210543" y="21600"/>
                </a:lnTo>
                <a:lnTo>
                  <a:pt x="209143" y="20200"/>
                </a:lnTo>
                <a:lnTo>
                  <a:pt x="209143" y="1400"/>
                </a:lnTo>
                <a:close/>
              </a:path>
              <a:path fill="darkenLess" w="210543" h="21600">
                <a:moveTo>
                  <a:pt x="210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43" y="20200"/>
                </a:lnTo>
                <a:close/>
              </a:path>
              <a:path fill="lighten" w="210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9" action="ppaction://hlinksldjump"/>
          </p:cNvPr>
          <p:cNvSpPr/>
          <p:nvPr/>
        </p:nvSpPr>
        <p:spPr>
          <a:xfrm>
            <a:off x="685800" y="5334120"/>
            <a:ext cx="2819520" cy="457200"/>
          </a:xfrm>
          <a:custGeom>
            <a:avLst/>
            <a:gdLst>
              <a:gd name="textAreaLeft" fmla="*/ 29520 w 2819520"/>
              <a:gd name="textAreaRight" fmla="*/ 2790000 w 2819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3118" h="21600">
                <a:moveTo>
                  <a:pt x="0" y="0"/>
                </a:moveTo>
                <a:lnTo>
                  <a:pt x="133118" y="0"/>
                </a:lnTo>
                <a:lnTo>
                  <a:pt x="133118" y="21600"/>
                </a:lnTo>
                <a:lnTo>
                  <a:pt x="0" y="21600"/>
                </a:lnTo>
                <a:close/>
              </a:path>
              <a:path fill="lightenLess" w="133118" h="21600">
                <a:moveTo>
                  <a:pt x="0" y="0"/>
                </a:moveTo>
                <a:lnTo>
                  <a:pt x="133118" y="0"/>
                </a:lnTo>
                <a:lnTo>
                  <a:pt x="131718" y="1400"/>
                </a:lnTo>
                <a:lnTo>
                  <a:pt x="1400" y="1400"/>
                </a:lnTo>
                <a:close/>
              </a:path>
              <a:path fill="darken" w="133118" h="21600">
                <a:moveTo>
                  <a:pt x="133118" y="0"/>
                </a:moveTo>
                <a:lnTo>
                  <a:pt x="133118" y="21600"/>
                </a:lnTo>
                <a:lnTo>
                  <a:pt x="131718" y="20200"/>
                </a:lnTo>
                <a:lnTo>
                  <a:pt x="131718" y="1400"/>
                </a:lnTo>
                <a:close/>
              </a:path>
              <a:path fill="darkenLess" w="133118" h="21600">
                <a:moveTo>
                  <a:pt x="133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18" y="20200"/>
                </a:lnTo>
                <a:close/>
              </a:path>
              <a:path fill="lighten" w="133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0" action="ppaction://hlinksldjump"/>
          </p:cNvPr>
          <p:cNvSpPr/>
          <p:nvPr/>
        </p:nvSpPr>
        <p:spPr>
          <a:xfrm>
            <a:off x="685800" y="5867280"/>
            <a:ext cx="2743200" cy="381240"/>
          </a:xfrm>
          <a:custGeom>
            <a:avLst/>
            <a:gdLst>
              <a:gd name="textAreaLeft" fmla="*/ 24480 w 2743200"/>
              <a:gd name="textAreaRight" fmla="*/ 2718720 w 2743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5296" h="21600">
                <a:moveTo>
                  <a:pt x="0" y="0"/>
                </a:moveTo>
                <a:lnTo>
                  <a:pt x="155296" y="0"/>
                </a:lnTo>
                <a:lnTo>
                  <a:pt x="155296" y="21600"/>
                </a:lnTo>
                <a:lnTo>
                  <a:pt x="0" y="21600"/>
                </a:lnTo>
                <a:close/>
              </a:path>
              <a:path fill="lightenLess" w="155296" h="21600">
                <a:moveTo>
                  <a:pt x="0" y="0"/>
                </a:moveTo>
                <a:lnTo>
                  <a:pt x="155296" y="0"/>
                </a:lnTo>
                <a:lnTo>
                  <a:pt x="153896" y="1400"/>
                </a:lnTo>
                <a:lnTo>
                  <a:pt x="1400" y="1400"/>
                </a:lnTo>
                <a:close/>
              </a:path>
              <a:path fill="darken" w="155296" h="21600">
                <a:moveTo>
                  <a:pt x="155296" y="0"/>
                </a:moveTo>
                <a:lnTo>
                  <a:pt x="155296" y="21600"/>
                </a:lnTo>
                <a:lnTo>
                  <a:pt x="153896" y="20200"/>
                </a:lnTo>
                <a:lnTo>
                  <a:pt x="153896" y="1400"/>
                </a:lnTo>
                <a:close/>
              </a:path>
              <a:path fill="darkenLess" w="155296" h="21600">
                <a:moveTo>
                  <a:pt x="155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3896" y="20200"/>
                </a:lnTo>
                <a:close/>
              </a:path>
              <a:path fill="lighten" w="155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11" action="ppaction://hlinksldjump"/>
          </p:cNvPr>
          <p:cNvSpPr/>
          <p:nvPr/>
        </p:nvSpPr>
        <p:spPr>
          <a:xfrm>
            <a:off x="4572000" y="1905120"/>
            <a:ext cx="2643120" cy="457200"/>
          </a:xfrm>
          <a:custGeom>
            <a:avLst/>
            <a:gdLst>
              <a:gd name="textAreaLeft" fmla="*/ 29520 w 2643120"/>
              <a:gd name="textAreaRight" fmla="*/ 2613600 w 26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4791" h="21600">
                <a:moveTo>
                  <a:pt x="0" y="0"/>
                </a:moveTo>
                <a:lnTo>
                  <a:pt x="124791" y="0"/>
                </a:lnTo>
                <a:lnTo>
                  <a:pt x="124791" y="21600"/>
                </a:lnTo>
                <a:lnTo>
                  <a:pt x="0" y="21600"/>
                </a:lnTo>
                <a:close/>
              </a:path>
              <a:path fill="lightenLess" w="124791" h="21600">
                <a:moveTo>
                  <a:pt x="0" y="0"/>
                </a:moveTo>
                <a:lnTo>
                  <a:pt x="124791" y="0"/>
                </a:lnTo>
                <a:lnTo>
                  <a:pt x="123391" y="1400"/>
                </a:lnTo>
                <a:lnTo>
                  <a:pt x="1400" y="1400"/>
                </a:lnTo>
                <a:close/>
              </a:path>
              <a:path fill="darken" w="124791" h="21600">
                <a:moveTo>
                  <a:pt x="124791" y="0"/>
                </a:moveTo>
                <a:lnTo>
                  <a:pt x="124791" y="21600"/>
                </a:lnTo>
                <a:lnTo>
                  <a:pt x="123391" y="20200"/>
                </a:lnTo>
                <a:lnTo>
                  <a:pt x="123391" y="1400"/>
                </a:lnTo>
                <a:close/>
              </a:path>
              <a:path fill="darkenLess" w="124791" h="21600">
                <a:moveTo>
                  <a:pt x="12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391" y="20200"/>
                </a:lnTo>
                <a:close/>
              </a:path>
              <a:path fill="lighten" w="12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12" action="ppaction://hlinksldjump"/>
          </p:cNvPr>
          <p:cNvSpPr/>
          <p:nvPr/>
        </p:nvSpPr>
        <p:spPr>
          <a:xfrm>
            <a:off x="4572000" y="2438280"/>
            <a:ext cx="3124080" cy="381240"/>
          </a:xfrm>
          <a:custGeom>
            <a:avLst/>
            <a:gdLst>
              <a:gd name="textAreaLeft" fmla="*/ 24480 w 3124080"/>
              <a:gd name="textAreaRight" fmla="*/ 3099600 w 3124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6855" h="21600">
                <a:moveTo>
                  <a:pt x="0" y="0"/>
                </a:moveTo>
                <a:lnTo>
                  <a:pt x="176855" y="0"/>
                </a:lnTo>
                <a:lnTo>
                  <a:pt x="176855" y="21600"/>
                </a:lnTo>
                <a:lnTo>
                  <a:pt x="0" y="21600"/>
                </a:lnTo>
                <a:close/>
              </a:path>
              <a:path fill="lightenLess" w="176855" h="21600">
                <a:moveTo>
                  <a:pt x="0" y="0"/>
                </a:moveTo>
                <a:lnTo>
                  <a:pt x="176855" y="0"/>
                </a:lnTo>
                <a:lnTo>
                  <a:pt x="175455" y="1400"/>
                </a:lnTo>
                <a:lnTo>
                  <a:pt x="1400" y="1400"/>
                </a:lnTo>
                <a:close/>
              </a:path>
              <a:path fill="darken" w="176855" h="21600">
                <a:moveTo>
                  <a:pt x="176855" y="0"/>
                </a:moveTo>
                <a:lnTo>
                  <a:pt x="176855" y="21600"/>
                </a:lnTo>
                <a:lnTo>
                  <a:pt x="175455" y="20200"/>
                </a:lnTo>
                <a:lnTo>
                  <a:pt x="175455" y="1400"/>
                </a:lnTo>
                <a:close/>
              </a:path>
              <a:path fill="darkenLess" w="176855" h="21600">
                <a:moveTo>
                  <a:pt x="176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5455" y="20200"/>
                </a:lnTo>
                <a:close/>
              </a:path>
              <a:path fill="lighten" w="176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13" action="ppaction://hlinksldjump"/>
          </p:cNvPr>
          <p:cNvSpPr/>
          <p:nvPr/>
        </p:nvSpPr>
        <p:spPr>
          <a:xfrm>
            <a:off x="4572000" y="2971800"/>
            <a:ext cx="3200400" cy="304920"/>
          </a:xfrm>
          <a:custGeom>
            <a:avLst/>
            <a:gdLst>
              <a:gd name="textAreaLeft" fmla="*/ 19440 w 3200400"/>
              <a:gd name="textAreaRight" fmla="*/ 3180960 w 3200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6469" h="21600">
                <a:moveTo>
                  <a:pt x="0" y="0"/>
                </a:moveTo>
                <a:lnTo>
                  <a:pt x="226469" y="0"/>
                </a:lnTo>
                <a:lnTo>
                  <a:pt x="226469" y="21600"/>
                </a:lnTo>
                <a:lnTo>
                  <a:pt x="0" y="21600"/>
                </a:lnTo>
                <a:close/>
              </a:path>
              <a:path fill="lightenLess" w="226469" h="21600">
                <a:moveTo>
                  <a:pt x="0" y="0"/>
                </a:moveTo>
                <a:lnTo>
                  <a:pt x="226469" y="0"/>
                </a:lnTo>
                <a:lnTo>
                  <a:pt x="225069" y="1400"/>
                </a:lnTo>
                <a:lnTo>
                  <a:pt x="1400" y="1400"/>
                </a:lnTo>
                <a:close/>
              </a:path>
              <a:path fill="darken" w="226469" h="21600">
                <a:moveTo>
                  <a:pt x="226469" y="0"/>
                </a:moveTo>
                <a:lnTo>
                  <a:pt x="226469" y="21600"/>
                </a:lnTo>
                <a:lnTo>
                  <a:pt x="225069" y="20200"/>
                </a:lnTo>
                <a:lnTo>
                  <a:pt x="225069" y="1400"/>
                </a:lnTo>
                <a:close/>
              </a:path>
              <a:path fill="darkenLess" w="226469" h="21600">
                <a:moveTo>
                  <a:pt x="226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069" y="20200"/>
                </a:lnTo>
                <a:close/>
              </a:path>
              <a:path fill="lighten" w="226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14" action="ppaction://hlinksldjump"/>
          </p:cNvPr>
          <p:cNvSpPr/>
          <p:nvPr/>
        </p:nvSpPr>
        <p:spPr>
          <a:xfrm>
            <a:off x="4572000" y="3429000"/>
            <a:ext cx="3352680" cy="380880"/>
          </a:xfrm>
          <a:custGeom>
            <a:avLst/>
            <a:gdLst>
              <a:gd name="textAreaLeft" fmla="*/ 24480 w 3352680"/>
              <a:gd name="textAreaRight" fmla="*/ 3328200 w 3352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89974" h="21600">
                <a:moveTo>
                  <a:pt x="0" y="0"/>
                </a:moveTo>
                <a:lnTo>
                  <a:pt x="189974" y="0"/>
                </a:lnTo>
                <a:lnTo>
                  <a:pt x="189974" y="21600"/>
                </a:lnTo>
                <a:lnTo>
                  <a:pt x="0" y="21600"/>
                </a:lnTo>
                <a:close/>
              </a:path>
              <a:path fill="lightenLess" w="189974" h="21600">
                <a:moveTo>
                  <a:pt x="0" y="0"/>
                </a:moveTo>
                <a:lnTo>
                  <a:pt x="189974" y="0"/>
                </a:lnTo>
                <a:lnTo>
                  <a:pt x="188574" y="1400"/>
                </a:lnTo>
                <a:lnTo>
                  <a:pt x="1400" y="1400"/>
                </a:lnTo>
                <a:close/>
              </a:path>
              <a:path fill="darken" w="189974" h="21600">
                <a:moveTo>
                  <a:pt x="189974" y="0"/>
                </a:moveTo>
                <a:lnTo>
                  <a:pt x="189974" y="21600"/>
                </a:lnTo>
                <a:lnTo>
                  <a:pt x="188574" y="20200"/>
                </a:lnTo>
                <a:lnTo>
                  <a:pt x="188574" y="1400"/>
                </a:lnTo>
                <a:close/>
              </a:path>
              <a:path fill="darkenLess" w="189974" h="21600">
                <a:moveTo>
                  <a:pt x="189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8574" y="20200"/>
                </a:lnTo>
                <a:close/>
              </a:path>
              <a:path fill="lighten" w="189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15" action="ppaction://hlinksldjump"/>
          </p:cNvPr>
          <p:cNvSpPr/>
          <p:nvPr/>
        </p:nvSpPr>
        <p:spPr>
          <a:xfrm>
            <a:off x="4572000" y="3886200"/>
            <a:ext cx="3429000" cy="533520"/>
          </a:xfrm>
          <a:custGeom>
            <a:avLst/>
            <a:gdLst>
              <a:gd name="textAreaLeft" fmla="*/ 34560 w 3429000"/>
              <a:gd name="textAreaRight" fmla="*/ 3394440 w 3429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8747" h="21600">
                <a:moveTo>
                  <a:pt x="0" y="0"/>
                </a:moveTo>
                <a:lnTo>
                  <a:pt x="138747" y="0"/>
                </a:lnTo>
                <a:lnTo>
                  <a:pt x="138747" y="21600"/>
                </a:lnTo>
                <a:lnTo>
                  <a:pt x="0" y="21600"/>
                </a:lnTo>
                <a:close/>
              </a:path>
              <a:path fill="lightenLess" w="138747" h="21600">
                <a:moveTo>
                  <a:pt x="0" y="0"/>
                </a:moveTo>
                <a:lnTo>
                  <a:pt x="138747" y="0"/>
                </a:lnTo>
                <a:lnTo>
                  <a:pt x="137347" y="1400"/>
                </a:lnTo>
                <a:lnTo>
                  <a:pt x="1400" y="1400"/>
                </a:lnTo>
                <a:close/>
              </a:path>
              <a:path fill="darken" w="138747" h="21600">
                <a:moveTo>
                  <a:pt x="138747" y="0"/>
                </a:moveTo>
                <a:lnTo>
                  <a:pt x="138747" y="21600"/>
                </a:lnTo>
                <a:lnTo>
                  <a:pt x="137347" y="20200"/>
                </a:lnTo>
                <a:lnTo>
                  <a:pt x="137347" y="1400"/>
                </a:lnTo>
                <a:close/>
              </a:path>
              <a:path fill="darkenLess" w="138747" h="21600">
                <a:moveTo>
                  <a:pt x="138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347" y="20200"/>
                </a:lnTo>
                <a:close/>
              </a:path>
              <a:path fill="lighten" w="138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6" action="ppaction://hlinksldjump"/>
          </p:cNvPr>
          <p:cNvSpPr/>
          <p:nvPr/>
        </p:nvSpPr>
        <p:spPr>
          <a:xfrm>
            <a:off x="4648320" y="4495680"/>
            <a:ext cx="2971800" cy="304920"/>
          </a:xfrm>
          <a:custGeom>
            <a:avLst/>
            <a:gdLst>
              <a:gd name="textAreaLeft" fmla="*/ 19440 w 2971800"/>
              <a:gd name="textAreaRight" fmla="*/ 2952360 w 2971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0294" h="21600">
                <a:moveTo>
                  <a:pt x="0" y="0"/>
                </a:moveTo>
                <a:lnTo>
                  <a:pt x="210294" y="0"/>
                </a:lnTo>
                <a:lnTo>
                  <a:pt x="210294" y="21600"/>
                </a:lnTo>
                <a:lnTo>
                  <a:pt x="0" y="21600"/>
                </a:lnTo>
                <a:close/>
              </a:path>
              <a:path fill="lightenLess" w="210294" h="21600">
                <a:moveTo>
                  <a:pt x="0" y="0"/>
                </a:moveTo>
                <a:lnTo>
                  <a:pt x="210294" y="0"/>
                </a:lnTo>
                <a:lnTo>
                  <a:pt x="208894" y="1400"/>
                </a:lnTo>
                <a:lnTo>
                  <a:pt x="1400" y="1400"/>
                </a:lnTo>
                <a:close/>
              </a:path>
              <a:path fill="darken" w="210294" h="21600">
                <a:moveTo>
                  <a:pt x="210294" y="0"/>
                </a:moveTo>
                <a:lnTo>
                  <a:pt x="210294" y="21600"/>
                </a:lnTo>
                <a:lnTo>
                  <a:pt x="208894" y="20200"/>
                </a:lnTo>
                <a:lnTo>
                  <a:pt x="208894" y="1400"/>
                </a:lnTo>
                <a:close/>
              </a:path>
              <a:path fill="darkenLess" w="210294" h="21600">
                <a:moveTo>
                  <a:pt x="2102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894" y="20200"/>
                </a:lnTo>
                <a:close/>
              </a:path>
              <a:path fill="lighten" w="2102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17" action="ppaction://hlinksldjump"/>
          </p:cNvPr>
          <p:cNvSpPr/>
          <p:nvPr/>
        </p:nvSpPr>
        <p:spPr>
          <a:xfrm>
            <a:off x="4572000" y="5029200"/>
            <a:ext cx="3252960" cy="304920"/>
          </a:xfrm>
          <a:custGeom>
            <a:avLst/>
            <a:gdLst>
              <a:gd name="textAreaLeft" fmla="*/ 19440 w 3252960"/>
              <a:gd name="textAreaRight" fmla="*/ 3233520 w 32529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30188" h="21600">
                <a:moveTo>
                  <a:pt x="0" y="0"/>
                </a:moveTo>
                <a:lnTo>
                  <a:pt x="230188" y="0"/>
                </a:lnTo>
                <a:lnTo>
                  <a:pt x="230188" y="21600"/>
                </a:lnTo>
                <a:lnTo>
                  <a:pt x="0" y="21600"/>
                </a:lnTo>
                <a:close/>
              </a:path>
              <a:path fill="lightenLess" w="230188" h="21600">
                <a:moveTo>
                  <a:pt x="0" y="0"/>
                </a:moveTo>
                <a:lnTo>
                  <a:pt x="230188" y="0"/>
                </a:lnTo>
                <a:lnTo>
                  <a:pt x="228788" y="1400"/>
                </a:lnTo>
                <a:lnTo>
                  <a:pt x="1400" y="1400"/>
                </a:lnTo>
                <a:close/>
              </a:path>
              <a:path fill="darken" w="230188" h="21600">
                <a:moveTo>
                  <a:pt x="230188" y="0"/>
                </a:moveTo>
                <a:lnTo>
                  <a:pt x="230188" y="21600"/>
                </a:lnTo>
                <a:lnTo>
                  <a:pt x="228788" y="20200"/>
                </a:lnTo>
                <a:lnTo>
                  <a:pt x="228788" y="1400"/>
                </a:lnTo>
                <a:close/>
              </a:path>
              <a:path fill="darkenLess" w="230188" h="21600">
                <a:moveTo>
                  <a:pt x="230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8" y="20200"/>
                </a:lnTo>
                <a:close/>
              </a:path>
              <a:path fill="lighten" w="230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18" action="ppaction://hlinksldjump"/>
          </p:cNvPr>
          <p:cNvSpPr/>
          <p:nvPr/>
        </p:nvSpPr>
        <p:spPr>
          <a:xfrm>
            <a:off x="4648320" y="5486400"/>
            <a:ext cx="3709800" cy="457200"/>
          </a:xfrm>
          <a:custGeom>
            <a:avLst/>
            <a:gdLst>
              <a:gd name="textAreaLeft" fmla="*/ 29520 w 3709800"/>
              <a:gd name="textAreaRight" fmla="*/ 3680280 w 370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75145" h="21600">
                <a:moveTo>
                  <a:pt x="0" y="0"/>
                </a:moveTo>
                <a:lnTo>
                  <a:pt x="175145" y="0"/>
                </a:lnTo>
                <a:lnTo>
                  <a:pt x="175145" y="21600"/>
                </a:lnTo>
                <a:lnTo>
                  <a:pt x="0" y="21600"/>
                </a:lnTo>
                <a:close/>
              </a:path>
              <a:path fill="lightenLess" w="175145" h="21600">
                <a:moveTo>
                  <a:pt x="0" y="0"/>
                </a:moveTo>
                <a:lnTo>
                  <a:pt x="175145" y="0"/>
                </a:lnTo>
                <a:lnTo>
                  <a:pt x="173745" y="1400"/>
                </a:lnTo>
                <a:lnTo>
                  <a:pt x="1400" y="1400"/>
                </a:lnTo>
                <a:close/>
              </a:path>
              <a:path fill="darken" w="175145" h="21600">
                <a:moveTo>
                  <a:pt x="175145" y="0"/>
                </a:moveTo>
                <a:lnTo>
                  <a:pt x="175145" y="21600"/>
                </a:lnTo>
                <a:lnTo>
                  <a:pt x="173745" y="20200"/>
                </a:lnTo>
                <a:lnTo>
                  <a:pt x="173745" y="1400"/>
                </a:lnTo>
                <a:close/>
              </a:path>
              <a:path fill="darkenLess" w="175145" h="21600">
                <a:moveTo>
                  <a:pt x="175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745" y="20200"/>
                </a:lnTo>
                <a:close/>
              </a:path>
              <a:path fill="lighten" w="175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18520" y="6035760"/>
            <a:ext cx="172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6095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One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loved to talk and e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Bill Cl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George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3429000" y="2743200"/>
            <a:ext cx="2514600" cy="533520"/>
          </a:xfrm>
          <a:custGeom>
            <a:avLst/>
            <a:gdLst>
              <a:gd name="textAreaLeft" fmla="*/ 34560 w 2514600"/>
              <a:gd name="textAreaRight" fmla="*/ 2480040 w 2514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01752" h="21600">
                <a:moveTo>
                  <a:pt x="0" y="0"/>
                </a:moveTo>
                <a:lnTo>
                  <a:pt x="101752" y="0"/>
                </a:lnTo>
                <a:lnTo>
                  <a:pt x="101752" y="21600"/>
                </a:lnTo>
                <a:lnTo>
                  <a:pt x="0" y="21600"/>
                </a:lnTo>
                <a:close/>
              </a:path>
              <a:path fill="lightenLess" w="101752" h="21600">
                <a:moveTo>
                  <a:pt x="0" y="0"/>
                </a:moveTo>
                <a:lnTo>
                  <a:pt x="101752" y="0"/>
                </a:lnTo>
                <a:lnTo>
                  <a:pt x="100352" y="1400"/>
                </a:lnTo>
                <a:lnTo>
                  <a:pt x="1400" y="1400"/>
                </a:lnTo>
                <a:close/>
              </a:path>
              <a:path fill="darken" w="101752" h="21600">
                <a:moveTo>
                  <a:pt x="101752" y="0"/>
                </a:moveTo>
                <a:lnTo>
                  <a:pt x="101752" y="21600"/>
                </a:lnTo>
                <a:lnTo>
                  <a:pt x="100352" y="20200"/>
                </a:lnTo>
                <a:lnTo>
                  <a:pt x="100352" y="1400"/>
                </a:lnTo>
                <a:close/>
              </a:path>
              <a:path fill="darkenLess" w="101752" h="21600">
                <a:moveTo>
                  <a:pt x="10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352" y="20200"/>
                </a:lnTo>
                <a:close/>
              </a:path>
              <a:path fill="lighten" w="10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2666880" y="3733920"/>
            <a:ext cx="4038840" cy="609480"/>
          </a:xfrm>
          <a:custGeom>
            <a:avLst/>
            <a:gdLst>
              <a:gd name="textAreaLeft" fmla="*/ 39240 w 4038840"/>
              <a:gd name="textAreaRight" fmla="*/ 3999600 w 4038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43065" h="21600">
                <a:moveTo>
                  <a:pt x="0" y="0"/>
                </a:moveTo>
                <a:lnTo>
                  <a:pt x="143065" y="0"/>
                </a:lnTo>
                <a:lnTo>
                  <a:pt x="143065" y="21600"/>
                </a:lnTo>
                <a:lnTo>
                  <a:pt x="0" y="21600"/>
                </a:lnTo>
                <a:close/>
              </a:path>
              <a:path fill="lightenLess" w="143065" h="21600">
                <a:moveTo>
                  <a:pt x="0" y="0"/>
                </a:moveTo>
                <a:lnTo>
                  <a:pt x="143065" y="0"/>
                </a:lnTo>
                <a:lnTo>
                  <a:pt x="141665" y="1400"/>
                </a:lnTo>
                <a:lnTo>
                  <a:pt x="1400" y="1400"/>
                </a:lnTo>
                <a:close/>
              </a:path>
              <a:path fill="darken" w="143065" h="21600">
                <a:moveTo>
                  <a:pt x="143065" y="0"/>
                </a:moveTo>
                <a:lnTo>
                  <a:pt x="143065" y="21600"/>
                </a:lnTo>
                <a:lnTo>
                  <a:pt x="141665" y="20200"/>
                </a:lnTo>
                <a:lnTo>
                  <a:pt x="141665" y="1400"/>
                </a:lnTo>
                <a:close/>
              </a:path>
              <a:path fill="darkenLess" w="143065" h="21600">
                <a:moveTo>
                  <a:pt x="143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65" y="20200"/>
                </a:lnTo>
                <a:close/>
              </a:path>
              <a:path fill="lighten" w="143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Two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the youngest pilot in the Navy to receive his w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Andrew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George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3200400" y="4191120"/>
            <a:ext cx="2971800" cy="533160"/>
          </a:xfrm>
          <a:custGeom>
            <a:avLst/>
            <a:gdLst>
              <a:gd name="textAreaLeft" fmla="*/ 34560 w 2971800"/>
              <a:gd name="textAreaRight" fmla="*/ 2937240 w 2971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20330" h="21600">
                <a:moveTo>
                  <a:pt x="0" y="0"/>
                </a:moveTo>
                <a:lnTo>
                  <a:pt x="120330" y="0"/>
                </a:lnTo>
                <a:lnTo>
                  <a:pt x="120330" y="21600"/>
                </a:lnTo>
                <a:lnTo>
                  <a:pt x="0" y="21600"/>
                </a:lnTo>
                <a:close/>
              </a:path>
              <a:path fill="lightenLess" w="120330" h="21600">
                <a:moveTo>
                  <a:pt x="0" y="0"/>
                </a:moveTo>
                <a:lnTo>
                  <a:pt x="120330" y="0"/>
                </a:lnTo>
                <a:lnTo>
                  <a:pt x="118930" y="1400"/>
                </a:lnTo>
                <a:lnTo>
                  <a:pt x="1400" y="1400"/>
                </a:lnTo>
                <a:close/>
              </a:path>
              <a:path fill="darken" w="120330" h="21600">
                <a:moveTo>
                  <a:pt x="120330" y="0"/>
                </a:moveTo>
                <a:lnTo>
                  <a:pt x="120330" y="21600"/>
                </a:lnTo>
                <a:lnTo>
                  <a:pt x="118930" y="20200"/>
                </a:lnTo>
                <a:lnTo>
                  <a:pt x="118930" y="1400"/>
                </a:lnTo>
                <a:close/>
              </a:path>
              <a:path fill="darkenLess" w="120330" h="21600">
                <a:moveTo>
                  <a:pt x="120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930" y="20200"/>
                </a:lnTo>
                <a:close/>
              </a:path>
              <a:path fill="lighten" w="120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2971800" y="3124080"/>
            <a:ext cx="3505320" cy="609840"/>
          </a:xfrm>
          <a:custGeom>
            <a:avLst/>
            <a:gdLst>
              <a:gd name="textAreaLeft" fmla="*/ 39240 w 3505320"/>
              <a:gd name="textAreaRight" fmla="*/ 3466080 w 3505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24095" h="21600">
                <a:moveTo>
                  <a:pt x="0" y="0"/>
                </a:moveTo>
                <a:lnTo>
                  <a:pt x="124095" y="0"/>
                </a:lnTo>
                <a:lnTo>
                  <a:pt x="124095" y="21600"/>
                </a:lnTo>
                <a:lnTo>
                  <a:pt x="0" y="21600"/>
                </a:lnTo>
                <a:close/>
              </a:path>
              <a:path fill="lightenLess" w="124095" h="21600">
                <a:moveTo>
                  <a:pt x="0" y="0"/>
                </a:moveTo>
                <a:lnTo>
                  <a:pt x="124095" y="0"/>
                </a:lnTo>
                <a:lnTo>
                  <a:pt x="122695" y="1400"/>
                </a:lnTo>
                <a:lnTo>
                  <a:pt x="1400" y="1400"/>
                </a:lnTo>
                <a:close/>
              </a:path>
              <a:path fill="darken" w="124095" h="21600">
                <a:moveTo>
                  <a:pt x="124095" y="0"/>
                </a:moveTo>
                <a:lnTo>
                  <a:pt x="124095" y="21600"/>
                </a:lnTo>
                <a:lnTo>
                  <a:pt x="122695" y="20200"/>
                </a:lnTo>
                <a:lnTo>
                  <a:pt x="122695" y="1400"/>
                </a:lnTo>
                <a:close/>
              </a:path>
              <a:path fill="darkenLess" w="124095" h="21600">
                <a:moveTo>
                  <a:pt x="12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695" y="20200"/>
                </a:lnTo>
                <a:close/>
              </a:path>
              <a:path fill="lighten" w="12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Three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the first President to nominate the first woman Supreme Court Jus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Thomas Jeff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onald Rea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2819520" y="3124080"/>
            <a:ext cx="3733560" cy="533520"/>
          </a:xfrm>
          <a:custGeom>
            <a:avLst/>
            <a:gdLst>
              <a:gd name="textAreaLeft" fmla="*/ 34560 w 3733560"/>
              <a:gd name="textAreaRight" fmla="*/ 3699000 w 37335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69" h="21600">
                <a:moveTo>
                  <a:pt x="0" y="0"/>
                </a:moveTo>
                <a:lnTo>
                  <a:pt x="151069" y="0"/>
                </a:lnTo>
                <a:lnTo>
                  <a:pt x="151069" y="21600"/>
                </a:lnTo>
                <a:lnTo>
                  <a:pt x="0" y="21600"/>
                </a:lnTo>
                <a:close/>
              </a:path>
              <a:path fill="lightenLess" w="151069" h="21600">
                <a:moveTo>
                  <a:pt x="0" y="0"/>
                </a:moveTo>
                <a:lnTo>
                  <a:pt x="151069" y="0"/>
                </a:lnTo>
                <a:lnTo>
                  <a:pt x="149669" y="1400"/>
                </a:lnTo>
                <a:lnTo>
                  <a:pt x="1400" y="1400"/>
                </a:lnTo>
                <a:close/>
              </a:path>
              <a:path fill="darken" w="151069" h="21600">
                <a:moveTo>
                  <a:pt x="151069" y="0"/>
                </a:moveTo>
                <a:lnTo>
                  <a:pt x="151069" y="21600"/>
                </a:lnTo>
                <a:lnTo>
                  <a:pt x="149669" y="20200"/>
                </a:lnTo>
                <a:lnTo>
                  <a:pt x="149669" y="1400"/>
                </a:lnTo>
                <a:close/>
              </a:path>
              <a:path fill="darkenLess" w="151069" h="21600">
                <a:moveTo>
                  <a:pt x="151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69" y="20200"/>
                </a:lnTo>
                <a:close/>
              </a:path>
              <a:path fill="lighten" w="151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3048120" y="4114800"/>
            <a:ext cx="3352680" cy="60948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8762" h="21600">
                <a:moveTo>
                  <a:pt x="0" y="0"/>
                </a:moveTo>
                <a:lnTo>
                  <a:pt x="118762" y="0"/>
                </a:lnTo>
                <a:lnTo>
                  <a:pt x="118762" y="21600"/>
                </a:lnTo>
                <a:lnTo>
                  <a:pt x="0" y="21600"/>
                </a:lnTo>
                <a:close/>
              </a:path>
              <a:path fill="lightenLess" w="118762" h="21600">
                <a:moveTo>
                  <a:pt x="0" y="0"/>
                </a:moveTo>
                <a:lnTo>
                  <a:pt x="118762" y="0"/>
                </a:lnTo>
                <a:lnTo>
                  <a:pt x="117362" y="1400"/>
                </a:lnTo>
                <a:lnTo>
                  <a:pt x="1400" y="1400"/>
                </a:lnTo>
                <a:close/>
              </a:path>
              <a:path fill="darken" w="118762" h="21600">
                <a:moveTo>
                  <a:pt x="118762" y="0"/>
                </a:moveTo>
                <a:lnTo>
                  <a:pt x="118762" y="21600"/>
                </a:lnTo>
                <a:lnTo>
                  <a:pt x="117362" y="20200"/>
                </a:lnTo>
                <a:lnTo>
                  <a:pt x="117362" y="1400"/>
                </a:lnTo>
                <a:close/>
              </a:path>
              <a:path fill="darkenLess" w="118762" h="21600">
                <a:moveTo>
                  <a:pt x="11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2" y="20200"/>
                </a:lnTo>
                <a:close/>
              </a:path>
              <a:path fill="lighten" w="11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Four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the first presiden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George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3200400" y="3124080"/>
            <a:ext cx="2948040" cy="609840"/>
          </a:xfrm>
          <a:custGeom>
            <a:avLst/>
            <a:gdLst>
              <a:gd name="textAreaLeft" fmla="*/ 39240 w 2948040"/>
              <a:gd name="textAreaRight" fmla="*/ 2908800 w 2948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04368" h="21600">
                <a:moveTo>
                  <a:pt x="0" y="0"/>
                </a:moveTo>
                <a:lnTo>
                  <a:pt x="104368" y="0"/>
                </a:lnTo>
                <a:lnTo>
                  <a:pt x="104368" y="21600"/>
                </a:lnTo>
                <a:lnTo>
                  <a:pt x="0" y="21600"/>
                </a:lnTo>
                <a:close/>
              </a:path>
              <a:path fill="lightenLess" w="104368" h="21600">
                <a:moveTo>
                  <a:pt x="0" y="0"/>
                </a:moveTo>
                <a:lnTo>
                  <a:pt x="104368" y="0"/>
                </a:lnTo>
                <a:lnTo>
                  <a:pt x="102968" y="1400"/>
                </a:lnTo>
                <a:lnTo>
                  <a:pt x="1400" y="1400"/>
                </a:lnTo>
                <a:close/>
              </a:path>
              <a:path fill="darken" w="104368" h="21600">
                <a:moveTo>
                  <a:pt x="104368" y="0"/>
                </a:moveTo>
                <a:lnTo>
                  <a:pt x="104368" y="21600"/>
                </a:lnTo>
                <a:lnTo>
                  <a:pt x="102968" y="20200"/>
                </a:lnTo>
                <a:lnTo>
                  <a:pt x="102968" y="1400"/>
                </a:lnTo>
                <a:close/>
              </a:path>
              <a:path fill="darkenLess" w="104368" h="21600">
                <a:moveTo>
                  <a:pt x="1043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968" y="20200"/>
                </a:lnTo>
                <a:close/>
              </a:path>
              <a:path fill="lighten" w="1043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2666880" y="4114800"/>
            <a:ext cx="4038840" cy="609480"/>
          </a:xfrm>
          <a:custGeom>
            <a:avLst/>
            <a:gdLst>
              <a:gd name="textAreaLeft" fmla="*/ 39240 w 4038840"/>
              <a:gd name="textAreaRight" fmla="*/ 3999600 w 4038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43065" h="21600">
                <a:moveTo>
                  <a:pt x="0" y="0"/>
                </a:moveTo>
                <a:lnTo>
                  <a:pt x="143065" y="0"/>
                </a:lnTo>
                <a:lnTo>
                  <a:pt x="143065" y="21600"/>
                </a:lnTo>
                <a:lnTo>
                  <a:pt x="0" y="21600"/>
                </a:lnTo>
                <a:close/>
              </a:path>
              <a:path fill="lightenLess" w="143065" h="21600">
                <a:moveTo>
                  <a:pt x="0" y="0"/>
                </a:moveTo>
                <a:lnTo>
                  <a:pt x="143065" y="0"/>
                </a:lnTo>
                <a:lnTo>
                  <a:pt x="141665" y="1400"/>
                </a:lnTo>
                <a:lnTo>
                  <a:pt x="1400" y="1400"/>
                </a:lnTo>
                <a:close/>
              </a:path>
              <a:path fill="darken" w="143065" h="21600">
                <a:moveTo>
                  <a:pt x="143065" y="0"/>
                </a:moveTo>
                <a:lnTo>
                  <a:pt x="143065" y="21600"/>
                </a:lnTo>
                <a:lnTo>
                  <a:pt x="141665" y="20200"/>
                </a:lnTo>
                <a:lnTo>
                  <a:pt x="141665" y="1400"/>
                </a:lnTo>
                <a:close/>
              </a:path>
              <a:path fill="darkenLess" w="143065" h="21600">
                <a:moveTo>
                  <a:pt x="143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65" y="20200"/>
                </a:lnTo>
                <a:close/>
              </a:path>
              <a:path fill="lighten" w="143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Five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freed the slaves by signing the Emancipation Procla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Abraham Linco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Jimmy C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2819520" y="3124080"/>
            <a:ext cx="3657600" cy="533520"/>
          </a:xfrm>
          <a:custGeom>
            <a:avLst/>
            <a:gdLst>
              <a:gd name="textAreaLeft" fmla="*/ 34560 w 3657600"/>
              <a:gd name="textAreaRight" fmla="*/ 3623040 w 3657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47996" h="21600">
                <a:moveTo>
                  <a:pt x="0" y="0"/>
                </a:moveTo>
                <a:lnTo>
                  <a:pt x="147996" y="0"/>
                </a:lnTo>
                <a:lnTo>
                  <a:pt x="147996" y="21600"/>
                </a:lnTo>
                <a:lnTo>
                  <a:pt x="0" y="21600"/>
                </a:lnTo>
                <a:close/>
              </a:path>
              <a:path fill="lightenLess" w="147996" h="21600">
                <a:moveTo>
                  <a:pt x="0" y="0"/>
                </a:moveTo>
                <a:lnTo>
                  <a:pt x="147996" y="0"/>
                </a:lnTo>
                <a:lnTo>
                  <a:pt x="146596" y="1400"/>
                </a:lnTo>
                <a:lnTo>
                  <a:pt x="1400" y="1400"/>
                </a:lnTo>
                <a:close/>
              </a:path>
              <a:path fill="darken" w="147996" h="21600">
                <a:moveTo>
                  <a:pt x="147996" y="0"/>
                </a:moveTo>
                <a:lnTo>
                  <a:pt x="147996" y="21600"/>
                </a:lnTo>
                <a:lnTo>
                  <a:pt x="146596" y="20200"/>
                </a:lnTo>
                <a:lnTo>
                  <a:pt x="146596" y="1400"/>
                </a:lnTo>
                <a:close/>
              </a:path>
              <a:path fill="darkenLess" w="147996" h="21600">
                <a:moveTo>
                  <a:pt x="147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6596" y="20200"/>
                </a:lnTo>
                <a:close/>
              </a:path>
              <a:path fill="lighten" w="147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3276720" y="4191120"/>
            <a:ext cx="2895480" cy="533160"/>
          </a:xfrm>
          <a:custGeom>
            <a:avLst/>
            <a:gdLst>
              <a:gd name="textAreaLeft" fmla="*/ 34560 w 2895480"/>
              <a:gd name="textAreaRight" fmla="*/ 2860920 w 2895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17240" h="21600">
                <a:moveTo>
                  <a:pt x="0" y="0"/>
                </a:moveTo>
                <a:lnTo>
                  <a:pt x="117240" y="0"/>
                </a:lnTo>
                <a:lnTo>
                  <a:pt x="117240" y="21600"/>
                </a:lnTo>
                <a:lnTo>
                  <a:pt x="0" y="21600"/>
                </a:lnTo>
                <a:close/>
              </a:path>
              <a:path fill="lightenLess" w="117240" h="21600">
                <a:moveTo>
                  <a:pt x="0" y="0"/>
                </a:moveTo>
                <a:lnTo>
                  <a:pt x="117240" y="0"/>
                </a:lnTo>
                <a:lnTo>
                  <a:pt x="115841" y="1400"/>
                </a:lnTo>
                <a:lnTo>
                  <a:pt x="1400" y="1400"/>
                </a:lnTo>
                <a:close/>
              </a:path>
              <a:path fill="darken" w="117240" h="21600">
                <a:moveTo>
                  <a:pt x="117240" y="0"/>
                </a:moveTo>
                <a:lnTo>
                  <a:pt x="117240" y="21600"/>
                </a:lnTo>
                <a:lnTo>
                  <a:pt x="115841" y="20200"/>
                </a:lnTo>
                <a:lnTo>
                  <a:pt x="115841" y="1400"/>
                </a:lnTo>
                <a:close/>
              </a:path>
              <a:path fill="darkenLess" w="117240" h="21600">
                <a:moveTo>
                  <a:pt x="117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841" y="20200"/>
                </a:lnTo>
                <a:close/>
              </a:path>
              <a:path fill="lighten" w="117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Six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president during the attacks on the World Trade Center on 9/1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George W.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Franklin D.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2971800" y="3124080"/>
            <a:ext cx="3505320" cy="609840"/>
          </a:xfrm>
          <a:custGeom>
            <a:avLst/>
            <a:gdLst>
              <a:gd name="textAreaLeft" fmla="*/ 39240 w 3505320"/>
              <a:gd name="textAreaRight" fmla="*/ 3466080 w 3505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24095" h="21600">
                <a:moveTo>
                  <a:pt x="0" y="0"/>
                </a:moveTo>
                <a:lnTo>
                  <a:pt x="124095" y="0"/>
                </a:lnTo>
                <a:lnTo>
                  <a:pt x="124095" y="21600"/>
                </a:lnTo>
                <a:lnTo>
                  <a:pt x="0" y="21600"/>
                </a:lnTo>
                <a:close/>
              </a:path>
              <a:path fill="lightenLess" w="124095" h="21600">
                <a:moveTo>
                  <a:pt x="0" y="0"/>
                </a:moveTo>
                <a:lnTo>
                  <a:pt x="124095" y="0"/>
                </a:lnTo>
                <a:lnTo>
                  <a:pt x="122695" y="1400"/>
                </a:lnTo>
                <a:lnTo>
                  <a:pt x="1400" y="1400"/>
                </a:lnTo>
                <a:close/>
              </a:path>
              <a:path fill="darken" w="124095" h="21600">
                <a:moveTo>
                  <a:pt x="124095" y="0"/>
                </a:moveTo>
                <a:lnTo>
                  <a:pt x="124095" y="21600"/>
                </a:lnTo>
                <a:lnTo>
                  <a:pt x="122695" y="20200"/>
                </a:lnTo>
                <a:lnTo>
                  <a:pt x="122695" y="1400"/>
                </a:lnTo>
                <a:close/>
              </a:path>
              <a:path fill="darkenLess" w="124095" h="21600">
                <a:moveTo>
                  <a:pt x="12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695" y="20200"/>
                </a:lnTo>
                <a:close/>
              </a:path>
              <a:path fill="lighten" w="12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2590920" y="4114800"/>
            <a:ext cx="4190760" cy="685800"/>
          </a:xfrm>
          <a:custGeom>
            <a:avLst/>
            <a:gdLst>
              <a:gd name="textAreaLeft" fmla="*/ 44280 w 4190760"/>
              <a:gd name="textAreaRight" fmla="*/ 4146480 w 4190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31935" h="21600">
                <a:moveTo>
                  <a:pt x="0" y="0"/>
                </a:moveTo>
                <a:lnTo>
                  <a:pt x="131935" y="0"/>
                </a:lnTo>
                <a:lnTo>
                  <a:pt x="131935" y="21600"/>
                </a:lnTo>
                <a:lnTo>
                  <a:pt x="0" y="21600"/>
                </a:lnTo>
                <a:close/>
              </a:path>
              <a:path fill="lightenLess" w="131935" h="21600">
                <a:moveTo>
                  <a:pt x="0" y="0"/>
                </a:moveTo>
                <a:lnTo>
                  <a:pt x="131935" y="0"/>
                </a:lnTo>
                <a:lnTo>
                  <a:pt x="130535" y="1400"/>
                </a:lnTo>
                <a:lnTo>
                  <a:pt x="1400" y="1400"/>
                </a:lnTo>
                <a:close/>
              </a:path>
              <a:path fill="darken" w="131935" h="21600">
                <a:moveTo>
                  <a:pt x="131935" y="0"/>
                </a:moveTo>
                <a:lnTo>
                  <a:pt x="131935" y="21600"/>
                </a:lnTo>
                <a:lnTo>
                  <a:pt x="130535" y="20200"/>
                </a:lnTo>
                <a:lnTo>
                  <a:pt x="130535" y="1400"/>
                </a:lnTo>
                <a:close/>
              </a:path>
              <a:path fill="darkenLess" w="131935" h="21600">
                <a:moveTo>
                  <a:pt x="131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535" y="20200"/>
                </a:lnTo>
                <a:close/>
              </a:path>
              <a:path fill="lighten" w="131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Seve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a former football st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Bill Cl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Gerald 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2" action="ppaction://hlinksldjump"/>
          </p:cNvPr>
          <p:cNvSpPr/>
          <p:nvPr/>
        </p:nvSpPr>
        <p:spPr>
          <a:xfrm>
            <a:off x="3505320" y="2666880"/>
            <a:ext cx="2438280" cy="533520"/>
          </a:xfrm>
          <a:custGeom>
            <a:avLst/>
            <a:gdLst>
              <a:gd name="textAreaLeft" fmla="*/ 34560 w 2438280"/>
              <a:gd name="textAreaRight" fmla="*/ 2403720 w 2438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98664" h="21600">
                <a:moveTo>
                  <a:pt x="0" y="0"/>
                </a:moveTo>
                <a:lnTo>
                  <a:pt x="98664" y="0"/>
                </a:lnTo>
                <a:lnTo>
                  <a:pt x="98664" y="21600"/>
                </a:lnTo>
                <a:lnTo>
                  <a:pt x="0" y="21600"/>
                </a:lnTo>
                <a:close/>
              </a:path>
              <a:path fill="lightenLess" w="98664" h="21600">
                <a:moveTo>
                  <a:pt x="0" y="0"/>
                </a:moveTo>
                <a:lnTo>
                  <a:pt x="98664" y="0"/>
                </a:lnTo>
                <a:lnTo>
                  <a:pt x="97264" y="1400"/>
                </a:lnTo>
                <a:lnTo>
                  <a:pt x="1400" y="1400"/>
                </a:lnTo>
                <a:close/>
              </a:path>
              <a:path fill="darken" w="98664" h="21600">
                <a:moveTo>
                  <a:pt x="98664" y="0"/>
                </a:moveTo>
                <a:lnTo>
                  <a:pt x="98664" y="21600"/>
                </a:lnTo>
                <a:lnTo>
                  <a:pt x="97264" y="20200"/>
                </a:lnTo>
                <a:lnTo>
                  <a:pt x="97264" y="1400"/>
                </a:lnTo>
                <a:close/>
              </a:path>
              <a:path fill="darkenLess" w="98664" h="21600">
                <a:moveTo>
                  <a:pt x="98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264" y="20200"/>
                </a:lnTo>
                <a:close/>
              </a:path>
              <a:path fill="lighten" w="98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3" action="ppaction://hlinksldjump"/>
          </p:cNvPr>
          <p:cNvSpPr/>
          <p:nvPr/>
        </p:nvSpPr>
        <p:spPr>
          <a:xfrm>
            <a:off x="3352680" y="3733920"/>
            <a:ext cx="2743200" cy="533160"/>
          </a:xfrm>
          <a:custGeom>
            <a:avLst/>
            <a:gdLst>
              <a:gd name="textAreaLeft" fmla="*/ 34560 w 2743200"/>
              <a:gd name="textAreaRight" fmla="*/ 2708640 w 27432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11075" h="21600">
                <a:moveTo>
                  <a:pt x="0" y="0"/>
                </a:moveTo>
                <a:lnTo>
                  <a:pt x="111075" y="0"/>
                </a:lnTo>
                <a:lnTo>
                  <a:pt x="111075" y="21600"/>
                </a:lnTo>
                <a:lnTo>
                  <a:pt x="0" y="21600"/>
                </a:lnTo>
                <a:close/>
              </a:path>
              <a:path fill="lightenLess" w="111075" h="21600">
                <a:moveTo>
                  <a:pt x="0" y="0"/>
                </a:moveTo>
                <a:lnTo>
                  <a:pt x="111075" y="0"/>
                </a:lnTo>
                <a:lnTo>
                  <a:pt x="109675" y="1400"/>
                </a:lnTo>
                <a:lnTo>
                  <a:pt x="1400" y="1400"/>
                </a:lnTo>
                <a:close/>
              </a:path>
              <a:path fill="darken" w="111075" h="21600">
                <a:moveTo>
                  <a:pt x="111075" y="0"/>
                </a:moveTo>
                <a:lnTo>
                  <a:pt x="111075" y="21600"/>
                </a:lnTo>
                <a:lnTo>
                  <a:pt x="109675" y="20200"/>
                </a:lnTo>
                <a:lnTo>
                  <a:pt x="109675" y="1400"/>
                </a:lnTo>
                <a:close/>
              </a:path>
              <a:path fill="darkenLess" w="111075" h="21600">
                <a:moveTo>
                  <a:pt x="111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675" y="20200"/>
                </a:lnTo>
                <a:close/>
              </a:path>
              <a:path fill="lighten" w="111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Fun Games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198108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Presid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ess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2438280" y="1905120"/>
            <a:ext cx="4724640" cy="1042920"/>
          </a:xfrm>
          <a:custGeom>
            <a:avLst/>
            <a:gdLst>
              <a:gd name="textAreaLeft" fmla="*/ 67320 w 4724640"/>
              <a:gd name="textAreaRight" fmla="*/ 4657320 w 47246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97826" h="21600">
                <a:moveTo>
                  <a:pt x="0" y="0"/>
                </a:moveTo>
                <a:lnTo>
                  <a:pt x="97826" y="0"/>
                </a:lnTo>
                <a:lnTo>
                  <a:pt x="97826" y="21600"/>
                </a:lnTo>
                <a:lnTo>
                  <a:pt x="0" y="21600"/>
                </a:lnTo>
                <a:close/>
              </a:path>
              <a:path fill="lightenLess" w="97826" h="21600">
                <a:moveTo>
                  <a:pt x="0" y="0"/>
                </a:moveTo>
                <a:lnTo>
                  <a:pt x="97826" y="0"/>
                </a:lnTo>
                <a:lnTo>
                  <a:pt x="96426" y="1400"/>
                </a:lnTo>
                <a:lnTo>
                  <a:pt x="1400" y="1400"/>
                </a:lnTo>
                <a:close/>
              </a:path>
              <a:path fill="darken" w="97826" h="21600">
                <a:moveTo>
                  <a:pt x="97826" y="0"/>
                </a:moveTo>
                <a:lnTo>
                  <a:pt x="97826" y="21600"/>
                </a:lnTo>
                <a:lnTo>
                  <a:pt x="96426" y="20200"/>
                </a:lnTo>
                <a:lnTo>
                  <a:pt x="96426" y="1400"/>
                </a:lnTo>
                <a:close/>
              </a:path>
              <a:path fill="darkenLess" w="97826" h="21600">
                <a:moveTo>
                  <a:pt x="97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426" y="20200"/>
                </a:lnTo>
                <a:close/>
              </a:path>
              <a:path fill="lighten" w="97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3200400" y="3352680"/>
            <a:ext cx="3276720" cy="533520"/>
          </a:xfrm>
          <a:custGeom>
            <a:avLst/>
            <a:gdLst>
              <a:gd name="textAreaLeft" fmla="*/ 34560 w 3276720"/>
              <a:gd name="textAreaRight" fmla="*/ 3242160 w 3276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2586" h="21600">
                <a:moveTo>
                  <a:pt x="0" y="0"/>
                </a:moveTo>
                <a:lnTo>
                  <a:pt x="132586" y="0"/>
                </a:lnTo>
                <a:lnTo>
                  <a:pt x="132586" y="21600"/>
                </a:lnTo>
                <a:lnTo>
                  <a:pt x="0" y="21600"/>
                </a:lnTo>
                <a:close/>
              </a:path>
              <a:path fill="lightenLess" w="132586" h="21600">
                <a:moveTo>
                  <a:pt x="0" y="0"/>
                </a:moveTo>
                <a:lnTo>
                  <a:pt x="132586" y="0"/>
                </a:lnTo>
                <a:lnTo>
                  <a:pt x="131186" y="1400"/>
                </a:lnTo>
                <a:lnTo>
                  <a:pt x="1400" y="1400"/>
                </a:lnTo>
                <a:close/>
              </a:path>
              <a:path fill="darken" w="132586" h="21600">
                <a:moveTo>
                  <a:pt x="132586" y="0"/>
                </a:moveTo>
                <a:lnTo>
                  <a:pt x="132586" y="21600"/>
                </a:lnTo>
                <a:lnTo>
                  <a:pt x="131186" y="20200"/>
                </a:lnTo>
                <a:lnTo>
                  <a:pt x="131186" y="1400"/>
                </a:lnTo>
                <a:close/>
              </a:path>
              <a:path fill="darkenLess" w="132586" h="21600">
                <a:moveTo>
                  <a:pt x="132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186" y="20200"/>
                </a:lnTo>
                <a:close/>
              </a:path>
              <a:path fill="lighten" w="132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3880" y="54864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5410080"/>
            <a:ext cx="1676160" cy="814680"/>
          </a:xfrm>
          <a:custGeom>
            <a:avLst/>
            <a:gdLst>
              <a:gd name="textAreaLeft" fmla="*/ 52560 w 1676160"/>
              <a:gd name="textAreaRight" fmla="*/ 1623600 w 1676160"/>
              <a:gd name="textAreaTop" fmla="*/ 52560 h 814680"/>
              <a:gd name="textAreaBottom" fmla="*/ 762120 h 814680"/>
            </a:gdLst>
            <a:ahLst/>
            <a:rect l="textAreaLeft" t="textAreaTop" r="textAreaRight" b="textAreaBottom"/>
            <a:pathLst>
              <a:path w="44431" h="21600">
                <a:moveTo>
                  <a:pt x="0" y="0"/>
                </a:moveTo>
                <a:lnTo>
                  <a:pt x="44431" y="0"/>
                </a:lnTo>
                <a:lnTo>
                  <a:pt x="44431" y="21600"/>
                </a:lnTo>
                <a:lnTo>
                  <a:pt x="0" y="21600"/>
                </a:lnTo>
                <a:close/>
              </a:path>
              <a:path fill="lightenLess" w="44431" h="21600">
                <a:moveTo>
                  <a:pt x="0" y="0"/>
                </a:moveTo>
                <a:lnTo>
                  <a:pt x="44431" y="0"/>
                </a:lnTo>
                <a:lnTo>
                  <a:pt x="43031" y="1400"/>
                </a:lnTo>
                <a:lnTo>
                  <a:pt x="1400" y="1400"/>
                </a:lnTo>
                <a:close/>
              </a:path>
              <a:path fill="darken" w="44431" h="21600">
                <a:moveTo>
                  <a:pt x="44431" y="0"/>
                </a:moveTo>
                <a:lnTo>
                  <a:pt x="44431" y="21600"/>
                </a:lnTo>
                <a:lnTo>
                  <a:pt x="43031" y="20200"/>
                </a:lnTo>
                <a:lnTo>
                  <a:pt x="43031" y="1400"/>
                </a:lnTo>
                <a:close/>
              </a:path>
              <a:path fill="darkenLess" w="44431" h="21600">
                <a:moveTo>
                  <a:pt x="44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31" y="20200"/>
                </a:lnTo>
                <a:close/>
              </a:path>
              <a:path fill="lighten" w="44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Eigh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assassin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John F. Ken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Calvin Cool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3048120" y="2666880"/>
            <a:ext cx="3352680" cy="60984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18692" h="21600">
                <a:moveTo>
                  <a:pt x="0" y="0"/>
                </a:moveTo>
                <a:lnTo>
                  <a:pt x="118692" y="0"/>
                </a:lnTo>
                <a:lnTo>
                  <a:pt x="118692" y="21600"/>
                </a:lnTo>
                <a:lnTo>
                  <a:pt x="0" y="21600"/>
                </a:lnTo>
                <a:close/>
              </a:path>
              <a:path fill="lightenLess" w="118692" h="21600">
                <a:moveTo>
                  <a:pt x="0" y="0"/>
                </a:moveTo>
                <a:lnTo>
                  <a:pt x="118692" y="0"/>
                </a:lnTo>
                <a:lnTo>
                  <a:pt x="117292" y="1400"/>
                </a:lnTo>
                <a:lnTo>
                  <a:pt x="1400" y="1400"/>
                </a:lnTo>
                <a:close/>
              </a:path>
              <a:path fill="darken" w="118692" h="21600">
                <a:moveTo>
                  <a:pt x="118692" y="0"/>
                </a:moveTo>
                <a:lnTo>
                  <a:pt x="118692" y="21600"/>
                </a:lnTo>
                <a:lnTo>
                  <a:pt x="117292" y="20200"/>
                </a:lnTo>
                <a:lnTo>
                  <a:pt x="117292" y="1400"/>
                </a:lnTo>
                <a:close/>
              </a:path>
              <a:path fill="darkenLess" w="118692" h="21600">
                <a:moveTo>
                  <a:pt x="118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92" y="20200"/>
                </a:lnTo>
                <a:close/>
              </a:path>
              <a:path fill="lighten" w="118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3" action="ppaction://hlinksldjump"/>
          </p:cNvPr>
          <p:cNvSpPr/>
          <p:nvPr/>
        </p:nvSpPr>
        <p:spPr>
          <a:xfrm>
            <a:off x="3048120" y="3733920"/>
            <a:ext cx="3276360" cy="609480"/>
          </a:xfrm>
          <a:custGeom>
            <a:avLst/>
            <a:gdLst>
              <a:gd name="textAreaLeft" fmla="*/ 39240 w 3276360"/>
              <a:gd name="textAreaRight" fmla="*/ 3237120 w 3276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6059" h="21600">
                <a:moveTo>
                  <a:pt x="0" y="0"/>
                </a:moveTo>
                <a:lnTo>
                  <a:pt x="116059" y="0"/>
                </a:lnTo>
                <a:lnTo>
                  <a:pt x="116059" y="21600"/>
                </a:lnTo>
                <a:lnTo>
                  <a:pt x="0" y="21600"/>
                </a:lnTo>
                <a:close/>
              </a:path>
              <a:path fill="lightenLess" w="116059" h="21600">
                <a:moveTo>
                  <a:pt x="0" y="0"/>
                </a:moveTo>
                <a:lnTo>
                  <a:pt x="116059" y="0"/>
                </a:lnTo>
                <a:lnTo>
                  <a:pt x="114659" y="1400"/>
                </a:lnTo>
                <a:lnTo>
                  <a:pt x="1400" y="1400"/>
                </a:lnTo>
                <a:close/>
              </a:path>
              <a:path fill="darken" w="116059" h="21600">
                <a:moveTo>
                  <a:pt x="116059" y="0"/>
                </a:moveTo>
                <a:lnTo>
                  <a:pt x="116059" y="21600"/>
                </a:lnTo>
                <a:lnTo>
                  <a:pt x="114659" y="20200"/>
                </a:lnTo>
                <a:lnTo>
                  <a:pt x="114659" y="1400"/>
                </a:lnTo>
                <a:close/>
              </a:path>
              <a:path fill="darkenLess" w="116059" h="21600">
                <a:moveTo>
                  <a:pt x="116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4659" y="20200"/>
                </a:lnTo>
                <a:close/>
              </a:path>
              <a:path fill="lighten" w="116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Nine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suffered from polio and used a wheelcha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Theodore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Franklin D. Rooseve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2666880" y="3124080"/>
            <a:ext cx="4038840" cy="609840"/>
          </a:xfrm>
          <a:custGeom>
            <a:avLst/>
            <a:gdLst>
              <a:gd name="textAreaLeft" fmla="*/ 39240 w 4038840"/>
              <a:gd name="textAreaRight" fmla="*/ 3999600 w 4038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42981" h="21600">
                <a:moveTo>
                  <a:pt x="0" y="0"/>
                </a:moveTo>
                <a:lnTo>
                  <a:pt x="142981" y="0"/>
                </a:lnTo>
                <a:lnTo>
                  <a:pt x="142981" y="21600"/>
                </a:lnTo>
                <a:lnTo>
                  <a:pt x="0" y="21600"/>
                </a:lnTo>
                <a:close/>
              </a:path>
              <a:path fill="lightenLess" w="142981" h="21600">
                <a:moveTo>
                  <a:pt x="0" y="0"/>
                </a:moveTo>
                <a:lnTo>
                  <a:pt x="142981" y="0"/>
                </a:lnTo>
                <a:lnTo>
                  <a:pt x="141581" y="1400"/>
                </a:lnTo>
                <a:lnTo>
                  <a:pt x="1400" y="1400"/>
                </a:lnTo>
                <a:close/>
              </a:path>
              <a:path fill="darken" w="142981" h="21600">
                <a:moveTo>
                  <a:pt x="142981" y="0"/>
                </a:moveTo>
                <a:lnTo>
                  <a:pt x="142981" y="21600"/>
                </a:lnTo>
                <a:lnTo>
                  <a:pt x="141581" y="20200"/>
                </a:lnTo>
                <a:lnTo>
                  <a:pt x="141581" y="1400"/>
                </a:lnTo>
                <a:close/>
              </a:path>
              <a:path fill="darkenLess" w="142981" h="21600">
                <a:moveTo>
                  <a:pt x="142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81" y="20200"/>
                </a:lnTo>
                <a:close/>
              </a:path>
              <a:path fill="lighten" w="142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3" action="ppaction://hlinksldjump"/>
          </p:cNvPr>
          <p:cNvSpPr/>
          <p:nvPr/>
        </p:nvSpPr>
        <p:spPr>
          <a:xfrm>
            <a:off x="2590920" y="4114800"/>
            <a:ext cx="4267080" cy="609480"/>
          </a:xfrm>
          <a:custGeom>
            <a:avLst/>
            <a:gdLst>
              <a:gd name="textAreaLeft" fmla="*/ 39240 w 4267080"/>
              <a:gd name="textAreaRight" fmla="*/ 4227840 w 4267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1149" h="21600">
                <a:moveTo>
                  <a:pt x="0" y="0"/>
                </a:moveTo>
                <a:lnTo>
                  <a:pt x="151149" y="0"/>
                </a:lnTo>
                <a:lnTo>
                  <a:pt x="151149" y="21600"/>
                </a:lnTo>
                <a:lnTo>
                  <a:pt x="0" y="21600"/>
                </a:lnTo>
                <a:close/>
              </a:path>
              <a:path fill="lightenLess" w="151149" h="21600">
                <a:moveTo>
                  <a:pt x="0" y="0"/>
                </a:moveTo>
                <a:lnTo>
                  <a:pt x="151149" y="0"/>
                </a:lnTo>
                <a:lnTo>
                  <a:pt x="149749" y="1400"/>
                </a:lnTo>
                <a:lnTo>
                  <a:pt x="1400" y="1400"/>
                </a:lnTo>
                <a:close/>
              </a:path>
              <a:path fill="darken" w="151149" h="21600">
                <a:moveTo>
                  <a:pt x="151149" y="0"/>
                </a:moveTo>
                <a:lnTo>
                  <a:pt x="151149" y="21600"/>
                </a:lnTo>
                <a:lnTo>
                  <a:pt x="149749" y="20200"/>
                </a:lnTo>
                <a:lnTo>
                  <a:pt x="149749" y="1400"/>
                </a:lnTo>
                <a:close/>
              </a:path>
              <a:path fill="darkenLess" w="151149" h="21600">
                <a:moveTo>
                  <a:pt x="151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749" y="20200"/>
                </a:lnTo>
                <a:close/>
              </a:path>
              <a:path fill="lighten" w="151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Te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committed crimes in office and lied about them to the people of the United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George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3200400" y="3124080"/>
            <a:ext cx="2971800" cy="609840"/>
          </a:xfrm>
          <a:custGeom>
            <a:avLst/>
            <a:gdLst>
              <a:gd name="textAreaLeft" fmla="*/ 39240 w 2971800"/>
              <a:gd name="textAreaRight" fmla="*/ 2932560 w 2971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05209" h="21600">
                <a:moveTo>
                  <a:pt x="0" y="0"/>
                </a:moveTo>
                <a:lnTo>
                  <a:pt x="105209" y="0"/>
                </a:lnTo>
                <a:lnTo>
                  <a:pt x="105209" y="21600"/>
                </a:lnTo>
                <a:lnTo>
                  <a:pt x="0" y="21600"/>
                </a:lnTo>
                <a:close/>
              </a:path>
              <a:path fill="lightenLess" w="105209" h="21600">
                <a:moveTo>
                  <a:pt x="0" y="0"/>
                </a:moveTo>
                <a:lnTo>
                  <a:pt x="105209" y="0"/>
                </a:lnTo>
                <a:lnTo>
                  <a:pt x="103809" y="1400"/>
                </a:lnTo>
                <a:lnTo>
                  <a:pt x="1400" y="1400"/>
                </a:lnTo>
                <a:close/>
              </a:path>
              <a:path fill="darken" w="105209" h="21600">
                <a:moveTo>
                  <a:pt x="105209" y="0"/>
                </a:moveTo>
                <a:lnTo>
                  <a:pt x="105209" y="21600"/>
                </a:lnTo>
                <a:lnTo>
                  <a:pt x="103809" y="20200"/>
                </a:lnTo>
                <a:lnTo>
                  <a:pt x="103809" y="1400"/>
                </a:lnTo>
                <a:close/>
              </a:path>
              <a:path fill="darkenLess" w="105209" h="21600">
                <a:moveTo>
                  <a:pt x="10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09" y="20200"/>
                </a:lnTo>
                <a:close/>
              </a:path>
              <a:path fill="lighten" w="10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3124080" y="4114800"/>
            <a:ext cx="3124440" cy="609480"/>
          </a:xfrm>
          <a:custGeom>
            <a:avLst/>
            <a:gdLst>
              <a:gd name="textAreaLeft" fmla="*/ 39240 w 3124440"/>
              <a:gd name="textAreaRight" fmla="*/ 3085200 w 3124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0678" h="21600">
                <a:moveTo>
                  <a:pt x="0" y="0"/>
                </a:moveTo>
                <a:lnTo>
                  <a:pt x="110678" y="0"/>
                </a:lnTo>
                <a:lnTo>
                  <a:pt x="110678" y="21600"/>
                </a:lnTo>
                <a:lnTo>
                  <a:pt x="0" y="21600"/>
                </a:lnTo>
                <a:close/>
              </a:path>
              <a:path fill="lightenLess" w="110678" h="21600">
                <a:moveTo>
                  <a:pt x="0" y="0"/>
                </a:moveTo>
                <a:lnTo>
                  <a:pt x="110678" y="0"/>
                </a:lnTo>
                <a:lnTo>
                  <a:pt x="109278" y="1400"/>
                </a:lnTo>
                <a:lnTo>
                  <a:pt x="1400" y="1400"/>
                </a:lnTo>
                <a:close/>
              </a:path>
              <a:path fill="darken" w="110678" h="21600">
                <a:moveTo>
                  <a:pt x="110678" y="0"/>
                </a:moveTo>
                <a:lnTo>
                  <a:pt x="110678" y="21600"/>
                </a:lnTo>
                <a:lnTo>
                  <a:pt x="109278" y="20200"/>
                </a:lnTo>
                <a:lnTo>
                  <a:pt x="109278" y="1400"/>
                </a:lnTo>
                <a:close/>
              </a:path>
              <a:path fill="darkenLess" w="110678" h="21600">
                <a:moveTo>
                  <a:pt x="110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278" y="20200"/>
                </a:lnTo>
                <a:close/>
              </a:path>
              <a:path fill="lighten" w="110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Eleve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rote the Declaration of Independ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Thomas Jeff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Abraham Lincol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2895480" y="2666880"/>
            <a:ext cx="3657600" cy="533520"/>
          </a:xfrm>
          <a:custGeom>
            <a:avLst/>
            <a:gdLst>
              <a:gd name="textAreaLeft" fmla="*/ 34560 w 3657600"/>
              <a:gd name="textAreaRight" fmla="*/ 3623040 w 3657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47996" h="21600">
                <a:moveTo>
                  <a:pt x="0" y="0"/>
                </a:moveTo>
                <a:lnTo>
                  <a:pt x="147996" y="0"/>
                </a:lnTo>
                <a:lnTo>
                  <a:pt x="147996" y="21600"/>
                </a:lnTo>
                <a:lnTo>
                  <a:pt x="0" y="21600"/>
                </a:lnTo>
                <a:close/>
              </a:path>
              <a:path fill="lightenLess" w="147996" h="21600">
                <a:moveTo>
                  <a:pt x="0" y="0"/>
                </a:moveTo>
                <a:lnTo>
                  <a:pt x="147996" y="0"/>
                </a:lnTo>
                <a:lnTo>
                  <a:pt x="146596" y="1400"/>
                </a:lnTo>
                <a:lnTo>
                  <a:pt x="1400" y="1400"/>
                </a:lnTo>
                <a:close/>
              </a:path>
              <a:path fill="darken" w="147996" h="21600">
                <a:moveTo>
                  <a:pt x="147996" y="0"/>
                </a:moveTo>
                <a:lnTo>
                  <a:pt x="147996" y="21600"/>
                </a:lnTo>
                <a:lnTo>
                  <a:pt x="146596" y="20200"/>
                </a:lnTo>
                <a:lnTo>
                  <a:pt x="146596" y="1400"/>
                </a:lnTo>
                <a:close/>
              </a:path>
              <a:path fill="darkenLess" w="147996" h="21600">
                <a:moveTo>
                  <a:pt x="147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6596" y="20200"/>
                </a:lnTo>
                <a:close/>
              </a:path>
              <a:path fill="lighten" w="147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3" action="ppaction://hlinksldjump"/>
          </p:cNvPr>
          <p:cNvSpPr/>
          <p:nvPr/>
        </p:nvSpPr>
        <p:spPr>
          <a:xfrm>
            <a:off x="2971800" y="3733920"/>
            <a:ext cx="3505320" cy="685800"/>
          </a:xfrm>
          <a:custGeom>
            <a:avLst/>
            <a:gdLst>
              <a:gd name="textAreaLeft" fmla="*/ 44280 w 3505320"/>
              <a:gd name="textAreaRight" fmla="*/ 3461040 w 3505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0357" h="21600">
                <a:moveTo>
                  <a:pt x="0" y="0"/>
                </a:moveTo>
                <a:lnTo>
                  <a:pt x="110357" y="0"/>
                </a:lnTo>
                <a:lnTo>
                  <a:pt x="110357" y="21600"/>
                </a:lnTo>
                <a:lnTo>
                  <a:pt x="0" y="21600"/>
                </a:lnTo>
                <a:close/>
              </a:path>
              <a:path fill="lightenLess" w="110357" h="21600">
                <a:moveTo>
                  <a:pt x="0" y="0"/>
                </a:moveTo>
                <a:lnTo>
                  <a:pt x="110357" y="0"/>
                </a:lnTo>
                <a:lnTo>
                  <a:pt x="108957" y="1400"/>
                </a:lnTo>
                <a:lnTo>
                  <a:pt x="1400" y="1400"/>
                </a:lnTo>
                <a:close/>
              </a:path>
              <a:path fill="darken" w="110357" h="21600">
                <a:moveTo>
                  <a:pt x="110357" y="0"/>
                </a:moveTo>
                <a:lnTo>
                  <a:pt x="110357" y="21600"/>
                </a:lnTo>
                <a:lnTo>
                  <a:pt x="108957" y="20200"/>
                </a:lnTo>
                <a:lnTo>
                  <a:pt x="108957" y="1400"/>
                </a:lnTo>
                <a:close/>
              </a:path>
              <a:path fill="darkenLess" w="110357" h="21600">
                <a:moveTo>
                  <a:pt x="110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957" y="20200"/>
                </a:lnTo>
                <a:close/>
              </a:path>
              <a:path fill="lighten" w="110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Twelve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got stuck in his bathtu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George W.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William Howard T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2" action="ppaction://hlinksldjump"/>
          </p:cNvPr>
          <p:cNvSpPr/>
          <p:nvPr/>
        </p:nvSpPr>
        <p:spPr>
          <a:xfrm>
            <a:off x="2971800" y="2743200"/>
            <a:ext cx="3429000" cy="533520"/>
          </a:xfrm>
          <a:custGeom>
            <a:avLst/>
            <a:gdLst>
              <a:gd name="textAreaLeft" fmla="*/ 34560 w 3429000"/>
              <a:gd name="textAreaRight" fmla="*/ 3394440 w 3429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8747" h="21600">
                <a:moveTo>
                  <a:pt x="0" y="0"/>
                </a:moveTo>
                <a:lnTo>
                  <a:pt x="138747" y="0"/>
                </a:lnTo>
                <a:lnTo>
                  <a:pt x="138747" y="21600"/>
                </a:lnTo>
                <a:lnTo>
                  <a:pt x="0" y="21600"/>
                </a:lnTo>
                <a:close/>
              </a:path>
              <a:path fill="lightenLess" w="138747" h="21600">
                <a:moveTo>
                  <a:pt x="0" y="0"/>
                </a:moveTo>
                <a:lnTo>
                  <a:pt x="138747" y="0"/>
                </a:lnTo>
                <a:lnTo>
                  <a:pt x="137347" y="1400"/>
                </a:lnTo>
                <a:lnTo>
                  <a:pt x="1400" y="1400"/>
                </a:lnTo>
                <a:close/>
              </a:path>
              <a:path fill="darken" w="138747" h="21600">
                <a:moveTo>
                  <a:pt x="138747" y="0"/>
                </a:moveTo>
                <a:lnTo>
                  <a:pt x="138747" y="21600"/>
                </a:lnTo>
                <a:lnTo>
                  <a:pt x="137347" y="20200"/>
                </a:lnTo>
                <a:lnTo>
                  <a:pt x="137347" y="1400"/>
                </a:lnTo>
                <a:close/>
              </a:path>
              <a:path fill="darkenLess" w="138747" h="21600">
                <a:moveTo>
                  <a:pt x="138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347" y="20200"/>
                </a:lnTo>
                <a:close/>
              </a:path>
              <a:path fill="lighten" w="138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3" action="ppaction://hlinksldjump"/>
          </p:cNvPr>
          <p:cNvSpPr/>
          <p:nvPr/>
        </p:nvSpPr>
        <p:spPr>
          <a:xfrm>
            <a:off x="2666880" y="3733920"/>
            <a:ext cx="4191120" cy="533160"/>
          </a:xfrm>
          <a:custGeom>
            <a:avLst/>
            <a:gdLst>
              <a:gd name="textAreaLeft" fmla="*/ 34560 w 4191120"/>
              <a:gd name="textAreaRight" fmla="*/ 4156560 w 4191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69696" h="21600">
                <a:moveTo>
                  <a:pt x="0" y="0"/>
                </a:moveTo>
                <a:lnTo>
                  <a:pt x="169696" y="0"/>
                </a:lnTo>
                <a:lnTo>
                  <a:pt x="169696" y="21600"/>
                </a:lnTo>
                <a:lnTo>
                  <a:pt x="0" y="21600"/>
                </a:lnTo>
                <a:close/>
              </a:path>
              <a:path fill="lightenLess" w="169696" h="21600">
                <a:moveTo>
                  <a:pt x="0" y="0"/>
                </a:moveTo>
                <a:lnTo>
                  <a:pt x="169696" y="0"/>
                </a:lnTo>
                <a:lnTo>
                  <a:pt x="168296" y="1400"/>
                </a:lnTo>
                <a:lnTo>
                  <a:pt x="1400" y="1400"/>
                </a:lnTo>
                <a:close/>
              </a:path>
              <a:path fill="darken" w="169696" h="21600">
                <a:moveTo>
                  <a:pt x="169696" y="0"/>
                </a:moveTo>
                <a:lnTo>
                  <a:pt x="169696" y="21600"/>
                </a:lnTo>
                <a:lnTo>
                  <a:pt x="168296" y="20200"/>
                </a:lnTo>
                <a:lnTo>
                  <a:pt x="168296" y="1400"/>
                </a:lnTo>
                <a:close/>
              </a:path>
              <a:path fill="darkenLess" w="169696" h="21600">
                <a:moveTo>
                  <a:pt x="169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296" y="20200"/>
                </a:lnTo>
                <a:close/>
              </a:path>
              <a:path fill="lighten" w="169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Thirtee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a very active person - war hero, Nobel peace prize winner, conservationist, and outdoors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Theodore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Ulysses S. 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2666880" y="3657600"/>
            <a:ext cx="4114800" cy="457200"/>
          </a:xfrm>
          <a:custGeom>
            <a:avLst/>
            <a:gdLst>
              <a:gd name="textAreaLeft" fmla="*/ 29520 w 4114800"/>
              <a:gd name="textAreaRight" fmla="*/ 4085280 w 4114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94264" h="21600">
                <a:moveTo>
                  <a:pt x="0" y="0"/>
                </a:moveTo>
                <a:lnTo>
                  <a:pt x="194264" y="0"/>
                </a:lnTo>
                <a:lnTo>
                  <a:pt x="194264" y="21600"/>
                </a:lnTo>
                <a:lnTo>
                  <a:pt x="0" y="21600"/>
                </a:lnTo>
                <a:close/>
              </a:path>
              <a:path fill="lightenLess" w="194264" h="21600">
                <a:moveTo>
                  <a:pt x="0" y="0"/>
                </a:moveTo>
                <a:lnTo>
                  <a:pt x="194264" y="0"/>
                </a:lnTo>
                <a:lnTo>
                  <a:pt x="192864" y="1400"/>
                </a:lnTo>
                <a:lnTo>
                  <a:pt x="1400" y="1400"/>
                </a:lnTo>
                <a:close/>
              </a:path>
              <a:path fill="darken" w="194264" h="21600">
                <a:moveTo>
                  <a:pt x="194264" y="0"/>
                </a:moveTo>
                <a:lnTo>
                  <a:pt x="194264" y="21600"/>
                </a:lnTo>
                <a:lnTo>
                  <a:pt x="192864" y="20200"/>
                </a:lnTo>
                <a:lnTo>
                  <a:pt x="192864" y="1400"/>
                </a:lnTo>
                <a:close/>
              </a:path>
              <a:path fill="darkenLess" w="194264" h="21600">
                <a:moveTo>
                  <a:pt x="19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2864" y="20200"/>
                </a:lnTo>
                <a:close/>
              </a:path>
              <a:path fill="lighten" w="19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3" action="ppaction://hlinksldjump"/>
          </p:cNvPr>
          <p:cNvSpPr/>
          <p:nvPr/>
        </p:nvSpPr>
        <p:spPr>
          <a:xfrm>
            <a:off x="2971800" y="4572000"/>
            <a:ext cx="3505320" cy="609480"/>
          </a:xfrm>
          <a:custGeom>
            <a:avLst/>
            <a:gdLst>
              <a:gd name="textAreaLeft" fmla="*/ 39240 w 3505320"/>
              <a:gd name="textAreaRight" fmla="*/ 3466080 w 3505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4168" h="21600">
                <a:moveTo>
                  <a:pt x="0" y="0"/>
                </a:moveTo>
                <a:lnTo>
                  <a:pt x="124168" y="0"/>
                </a:lnTo>
                <a:lnTo>
                  <a:pt x="124168" y="21600"/>
                </a:lnTo>
                <a:lnTo>
                  <a:pt x="0" y="21600"/>
                </a:lnTo>
                <a:close/>
              </a:path>
              <a:path fill="lightenLess" w="124168" h="21600">
                <a:moveTo>
                  <a:pt x="0" y="0"/>
                </a:moveTo>
                <a:lnTo>
                  <a:pt x="124168" y="0"/>
                </a:lnTo>
                <a:lnTo>
                  <a:pt x="122768" y="1400"/>
                </a:lnTo>
                <a:lnTo>
                  <a:pt x="1400" y="1400"/>
                </a:lnTo>
                <a:close/>
              </a:path>
              <a:path fill="darken" w="124168" h="21600">
                <a:moveTo>
                  <a:pt x="124168" y="0"/>
                </a:moveTo>
                <a:lnTo>
                  <a:pt x="124168" y="21600"/>
                </a:lnTo>
                <a:lnTo>
                  <a:pt x="122768" y="20200"/>
                </a:lnTo>
                <a:lnTo>
                  <a:pt x="122768" y="1400"/>
                </a:lnTo>
                <a:close/>
              </a:path>
              <a:path fill="darkenLess" w="124168" h="21600">
                <a:moveTo>
                  <a:pt x="124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8" y="20200"/>
                </a:lnTo>
                <a:close/>
              </a:path>
              <a:path fill="lighten" w="124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Fourtee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orked toward equal rights for minorities and wom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William Howard T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Jimmy C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2" action="ppaction://hlinksldjump"/>
          </p:cNvPr>
          <p:cNvSpPr/>
          <p:nvPr/>
        </p:nvSpPr>
        <p:spPr>
          <a:xfrm>
            <a:off x="2666880" y="3124080"/>
            <a:ext cx="4114800" cy="533520"/>
          </a:xfrm>
          <a:custGeom>
            <a:avLst/>
            <a:gdLst>
              <a:gd name="textAreaLeft" fmla="*/ 34560 w 4114800"/>
              <a:gd name="textAreaRight" fmla="*/ 4080240 w 4114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66493" h="21600">
                <a:moveTo>
                  <a:pt x="0" y="0"/>
                </a:moveTo>
                <a:lnTo>
                  <a:pt x="166493" y="0"/>
                </a:lnTo>
                <a:lnTo>
                  <a:pt x="166493" y="21600"/>
                </a:lnTo>
                <a:lnTo>
                  <a:pt x="0" y="21600"/>
                </a:lnTo>
                <a:close/>
              </a:path>
              <a:path fill="lightenLess" w="166493" h="21600">
                <a:moveTo>
                  <a:pt x="0" y="0"/>
                </a:moveTo>
                <a:lnTo>
                  <a:pt x="166493" y="0"/>
                </a:lnTo>
                <a:lnTo>
                  <a:pt x="165093" y="1400"/>
                </a:lnTo>
                <a:lnTo>
                  <a:pt x="1400" y="1400"/>
                </a:lnTo>
                <a:close/>
              </a:path>
              <a:path fill="darken" w="166493" h="21600">
                <a:moveTo>
                  <a:pt x="166493" y="0"/>
                </a:moveTo>
                <a:lnTo>
                  <a:pt x="166493" y="21600"/>
                </a:lnTo>
                <a:lnTo>
                  <a:pt x="165093" y="20200"/>
                </a:lnTo>
                <a:lnTo>
                  <a:pt x="165093" y="1400"/>
                </a:lnTo>
                <a:close/>
              </a:path>
              <a:path fill="darkenLess" w="166493" h="21600">
                <a:moveTo>
                  <a:pt x="166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093" y="20200"/>
                </a:lnTo>
                <a:close/>
              </a:path>
              <a:path fill="lighten" w="166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3200400" y="4114800"/>
            <a:ext cx="3048120" cy="609480"/>
          </a:xfrm>
          <a:custGeom>
            <a:avLst/>
            <a:gdLst>
              <a:gd name="textAreaLeft" fmla="*/ 39240 w 3048120"/>
              <a:gd name="textAreaRight" fmla="*/ 3008880 w 3048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7974" h="21600">
                <a:moveTo>
                  <a:pt x="0" y="0"/>
                </a:moveTo>
                <a:lnTo>
                  <a:pt x="107974" y="0"/>
                </a:lnTo>
                <a:lnTo>
                  <a:pt x="107974" y="21600"/>
                </a:lnTo>
                <a:lnTo>
                  <a:pt x="0" y="21600"/>
                </a:lnTo>
                <a:close/>
              </a:path>
              <a:path fill="lightenLess" w="107974" h="21600">
                <a:moveTo>
                  <a:pt x="0" y="0"/>
                </a:moveTo>
                <a:lnTo>
                  <a:pt x="107974" y="0"/>
                </a:lnTo>
                <a:lnTo>
                  <a:pt x="106575" y="1400"/>
                </a:lnTo>
                <a:lnTo>
                  <a:pt x="1400" y="1400"/>
                </a:lnTo>
                <a:close/>
              </a:path>
              <a:path fill="darken" w="107974" h="21600">
                <a:moveTo>
                  <a:pt x="107974" y="0"/>
                </a:moveTo>
                <a:lnTo>
                  <a:pt x="107974" y="21600"/>
                </a:lnTo>
                <a:lnTo>
                  <a:pt x="106575" y="20200"/>
                </a:lnTo>
                <a:lnTo>
                  <a:pt x="106575" y="1400"/>
                </a:lnTo>
                <a:close/>
              </a:path>
              <a:path fill="darkenLess" w="107974" h="21600">
                <a:moveTo>
                  <a:pt x="107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75" y="20200"/>
                </a:lnTo>
                <a:close/>
              </a:path>
              <a:path fill="lighten" w="107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Fiftee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Nicknamed “Silent Cal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onald Rea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Calvin Cool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3048120" y="2590920"/>
            <a:ext cx="3276360" cy="685800"/>
          </a:xfrm>
          <a:custGeom>
            <a:avLst/>
            <a:gdLst>
              <a:gd name="textAreaLeft" fmla="*/ 44280 w 3276360"/>
              <a:gd name="textAreaRight" fmla="*/ 3232080 w 3276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50" h="21600">
                <a:moveTo>
                  <a:pt x="0" y="0"/>
                </a:moveTo>
                <a:lnTo>
                  <a:pt x="103150" y="0"/>
                </a:lnTo>
                <a:lnTo>
                  <a:pt x="103150" y="21600"/>
                </a:lnTo>
                <a:lnTo>
                  <a:pt x="0" y="21600"/>
                </a:lnTo>
                <a:close/>
              </a:path>
              <a:path fill="lightenLess" w="103150" h="21600">
                <a:moveTo>
                  <a:pt x="0" y="0"/>
                </a:moveTo>
                <a:lnTo>
                  <a:pt x="103150" y="0"/>
                </a:lnTo>
                <a:lnTo>
                  <a:pt x="101750" y="1400"/>
                </a:lnTo>
                <a:lnTo>
                  <a:pt x="1400" y="1400"/>
                </a:lnTo>
                <a:close/>
              </a:path>
              <a:path fill="darken" w="103150" h="21600">
                <a:moveTo>
                  <a:pt x="103150" y="0"/>
                </a:moveTo>
                <a:lnTo>
                  <a:pt x="103150" y="21600"/>
                </a:lnTo>
                <a:lnTo>
                  <a:pt x="101750" y="20200"/>
                </a:lnTo>
                <a:lnTo>
                  <a:pt x="101750" y="1400"/>
                </a:lnTo>
                <a:close/>
              </a:path>
              <a:path fill="darkenLess" w="103150" h="21600">
                <a:moveTo>
                  <a:pt x="103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50" y="20200"/>
                </a:lnTo>
                <a:close/>
              </a:path>
              <a:path fill="lighten" w="103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3" action="ppaction://hlinksldjump"/>
          </p:cNvPr>
          <p:cNvSpPr/>
          <p:nvPr/>
        </p:nvSpPr>
        <p:spPr>
          <a:xfrm>
            <a:off x="3048120" y="3733920"/>
            <a:ext cx="3276360" cy="533160"/>
          </a:xfrm>
          <a:custGeom>
            <a:avLst/>
            <a:gdLst>
              <a:gd name="textAreaLeft" fmla="*/ 34560 w 3276360"/>
              <a:gd name="textAreaRight" fmla="*/ 3241800 w 32763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32661" h="21600">
                <a:moveTo>
                  <a:pt x="0" y="0"/>
                </a:moveTo>
                <a:lnTo>
                  <a:pt x="132661" y="0"/>
                </a:lnTo>
                <a:lnTo>
                  <a:pt x="132661" y="21600"/>
                </a:lnTo>
                <a:lnTo>
                  <a:pt x="0" y="21600"/>
                </a:lnTo>
                <a:close/>
              </a:path>
              <a:path fill="lightenLess" w="132661" h="21600">
                <a:moveTo>
                  <a:pt x="0" y="0"/>
                </a:moveTo>
                <a:lnTo>
                  <a:pt x="132661" y="0"/>
                </a:lnTo>
                <a:lnTo>
                  <a:pt x="131261" y="1400"/>
                </a:lnTo>
                <a:lnTo>
                  <a:pt x="1400" y="1400"/>
                </a:lnTo>
                <a:close/>
              </a:path>
              <a:path fill="darken" w="132661" h="21600">
                <a:moveTo>
                  <a:pt x="132661" y="0"/>
                </a:moveTo>
                <a:lnTo>
                  <a:pt x="132661" y="21600"/>
                </a:lnTo>
                <a:lnTo>
                  <a:pt x="131261" y="20200"/>
                </a:lnTo>
                <a:lnTo>
                  <a:pt x="131261" y="1400"/>
                </a:lnTo>
                <a:close/>
              </a:path>
              <a:path fill="darkenLess" w="132661" h="21600">
                <a:moveTo>
                  <a:pt x="13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261" y="20200"/>
                </a:lnTo>
                <a:close/>
              </a:path>
              <a:path fill="lighten" w="13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Sixtee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a military general who led his army to a Civil War vic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Ulysses S. 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Gerald 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2895480" y="3124080"/>
            <a:ext cx="3581640" cy="609840"/>
          </a:xfrm>
          <a:custGeom>
            <a:avLst/>
            <a:gdLst>
              <a:gd name="textAreaLeft" fmla="*/ 39240 w 3581640"/>
              <a:gd name="textAreaRight" fmla="*/ 3542400 w 35816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26796" h="21600">
                <a:moveTo>
                  <a:pt x="0" y="0"/>
                </a:moveTo>
                <a:lnTo>
                  <a:pt x="126796" y="0"/>
                </a:lnTo>
                <a:lnTo>
                  <a:pt x="126796" y="21600"/>
                </a:lnTo>
                <a:lnTo>
                  <a:pt x="0" y="21600"/>
                </a:lnTo>
                <a:close/>
              </a:path>
              <a:path fill="lightenLess" w="126796" h="21600">
                <a:moveTo>
                  <a:pt x="0" y="0"/>
                </a:moveTo>
                <a:lnTo>
                  <a:pt x="126796" y="0"/>
                </a:lnTo>
                <a:lnTo>
                  <a:pt x="125397" y="1400"/>
                </a:lnTo>
                <a:lnTo>
                  <a:pt x="1400" y="1400"/>
                </a:lnTo>
                <a:close/>
              </a:path>
              <a:path fill="darken" w="126796" h="21600">
                <a:moveTo>
                  <a:pt x="126796" y="0"/>
                </a:moveTo>
                <a:lnTo>
                  <a:pt x="126796" y="21600"/>
                </a:lnTo>
                <a:lnTo>
                  <a:pt x="125397" y="20200"/>
                </a:lnTo>
                <a:lnTo>
                  <a:pt x="125397" y="1400"/>
                </a:lnTo>
                <a:close/>
              </a:path>
              <a:path fill="darkenLess" w="126796" h="21600">
                <a:moveTo>
                  <a:pt x="12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397" y="20200"/>
                </a:lnTo>
                <a:close/>
              </a:path>
              <a:path fill="lighten" w="12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3" action="ppaction://hlinksldjump"/>
          </p:cNvPr>
          <p:cNvSpPr/>
          <p:nvPr/>
        </p:nvSpPr>
        <p:spPr>
          <a:xfrm>
            <a:off x="3352680" y="4114800"/>
            <a:ext cx="2743200" cy="685800"/>
          </a:xfrm>
          <a:custGeom>
            <a:avLst/>
            <a:gdLst>
              <a:gd name="textAreaLeft" fmla="*/ 44280 w 2743200"/>
              <a:gd name="textAreaRight" fmla="*/ 2698920 w 2743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6366" h="21600">
                <a:moveTo>
                  <a:pt x="0" y="0"/>
                </a:moveTo>
                <a:lnTo>
                  <a:pt x="86366" y="0"/>
                </a:lnTo>
                <a:lnTo>
                  <a:pt x="86366" y="21600"/>
                </a:lnTo>
                <a:lnTo>
                  <a:pt x="0" y="21600"/>
                </a:lnTo>
                <a:close/>
              </a:path>
              <a:path fill="lightenLess" w="86366" h="21600">
                <a:moveTo>
                  <a:pt x="0" y="0"/>
                </a:moveTo>
                <a:lnTo>
                  <a:pt x="86366" y="0"/>
                </a:lnTo>
                <a:lnTo>
                  <a:pt x="84966" y="1400"/>
                </a:lnTo>
                <a:lnTo>
                  <a:pt x="1400" y="1400"/>
                </a:lnTo>
                <a:close/>
              </a:path>
              <a:path fill="darken" w="86366" h="21600">
                <a:moveTo>
                  <a:pt x="86366" y="0"/>
                </a:moveTo>
                <a:lnTo>
                  <a:pt x="86366" y="21600"/>
                </a:lnTo>
                <a:lnTo>
                  <a:pt x="84966" y="20200"/>
                </a:lnTo>
                <a:lnTo>
                  <a:pt x="84966" y="1400"/>
                </a:lnTo>
                <a:close/>
              </a:path>
              <a:path fill="darkenLess" w="86366" h="21600">
                <a:moveTo>
                  <a:pt x="86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66" y="20200"/>
                </a:lnTo>
                <a:close/>
              </a:path>
              <a:path fill="lighten" w="86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Seventee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fought in many du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Andrew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John F. Kenn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2895480" y="2743200"/>
            <a:ext cx="3505320" cy="533520"/>
          </a:xfrm>
          <a:custGeom>
            <a:avLst/>
            <a:gdLst>
              <a:gd name="textAreaLeft" fmla="*/ 34560 w 3505320"/>
              <a:gd name="textAreaRight" fmla="*/ 3470760 w 3505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41835" h="21600">
                <a:moveTo>
                  <a:pt x="0" y="0"/>
                </a:moveTo>
                <a:lnTo>
                  <a:pt x="141835" y="0"/>
                </a:lnTo>
                <a:lnTo>
                  <a:pt x="141835" y="21600"/>
                </a:lnTo>
                <a:lnTo>
                  <a:pt x="0" y="21600"/>
                </a:lnTo>
                <a:close/>
              </a:path>
              <a:path fill="lightenLess" w="141835" h="21600">
                <a:moveTo>
                  <a:pt x="0" y="0"/>
                </a:moveTo>
                <a:lnTo>
                  <a:pt x="141835" y="0"/>
                </a:lnTo>
                <a:lnTo>
                  <a:pt x="140435" y="1400"/>
                </a:lnTo>
                <a:lnTo>
                  <a:pt x="1400" y="1400"/>
                </a:lnTo>
                <a:close/>
              </a:path>
              <a:path fill="darken" w="141835" h="21600">
                <a:moveTo>
                  <a:pt x="141835" y="0"/>
                </a:moveTo>
                <a:lnTo>
                  <a:pt x="141835" y="21600"/>
                </a:lnTo>
                <a:lnTo>
                  <a:pt x="140435" y="20200"/>
                </a:lnTo>
                <a:lnTo>
                  <a:pt x="140435" y="1400"/>
                </a:lnTo>
                <a:close/>
              </a:path>
              <a:path fill="darkenLess" w="141835" h="21600">
                <a:moveTo>
                  <a:pt x="141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435" y="20200"/>
                </a:lnTo>
                <a:close/>
              </a:path>
              <a:path fill="lighten" w="141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2819520" y="3733920"/>
            <a:ext cx="3733560" cy="609480"/>
          </a:xfrm>
          <a:custGeom>
            <a:avLst/>
            <a:gdLst>
              <a:gd name="textAreaLeft" fmla="*/ 39240 w 3733560"/>
              <a:gd name="textAreaRight" fmla="*/ 3694320 w 3733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32252" h="21600">
                <a:moveTo>
                  <a:pt x="0" y="0"/>
                </a:moveTo>
                <a:lnTo>
                  <a:pt x="132252" y="0"/>
                </a:lnTo>
                <a:lnTo>
                  <a:pt x="132252" y="21600"/>
                </a:lnTo>
                <a:lnTo>
                  <a:pt x="0" y="21600"/>
                </a:lnTo>
                <a:close/>
              </a:path>
              <a:path fill="lightenLess" w="132252" h="21600">
                <a:moveTo>
                  <a:pt x="0" y="0"/>
                </a:moveTo>
                <a:lnTo>
                  <a:pt x="132252" y="0"/>
                </a:lnTo>
                <a:lnTo>
                  <a:pt x="130852" y="1400"/>
                </a:lnTo>
                <a:lnTo>
                  <a:pt x="1400" y="1400"/>
                </a:lnTo>
                <a:close/>
              </a:path>
              <a:path fill="darken" w="132252" h="21600">
                <a:moveTo>
                  <a:pt x="132252" y="0"/>
                </a:moveTo>
                <a:lnTo>
                  <a:pt x="132252" y="21600"/>
                </a:lnTo>
                <a:lnTo>
                  <a:pt x="130852" y="20200"/>
                </a:lnTo>
                <a:lnTo>
                  <a:pt x="130852" y="1400"/>
                </a:lnTo>
                <a:close/>
              </a:path>
              <a:path fill="darkenLess" w="132252" h="21600">
                <a:moveTo>
                  <a:pt x="132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52" y="20200"/>
                </a:lnTo>
                <a:close/>
              </a:path>
              <a:path fill="lighten" w="132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eorge Washingto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“good deed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ed extinguish a f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 … he was dressed like a fire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34340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00400" y="4419720"/>
            <a:ext cx="2181240" cy="132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1295280" y="2438280"/>
            <a:ext cx="693432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You're Right!!!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2705040" cy="22543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28600"/>
            <a:ext cx="2514600" cy="2079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783840" y="510552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5" action="ppaction://hlinksldjump"/>
          </p:cNvPr>
          <p:cNvSpPr/>
          <p:nvPr/>
        </p:nvSpPr>
        <p:spPr>
          <a:xfrm>
            <a:off x="6629400" y="5029200"/>
            <a:ext cx="2286000" cy="1042920"/>
          </a:xfrm>
          <a:custGeom>
            <a:avLst/>
            <a:gdLst>
              <a:gd name="textAreaLeft" fmla="*/ 67320 w 2286000"/>
              <a:gd name="textAreaRight" fmla="*/ 2218680 w 2286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47337" h="21600">
                <a:moveTo>
                  <a:pt x="0" y="0"/>
                </a:moveTo>
                <a:lnTo>
                  <a:pt x="47337" y="0"/>
                </a:lnTo>
                <a:lnTo>
                  <a:pt x="47337" y="21600"/>
                </a:lnTo>
                <a:lnTo>
                  <a:pt x="0" y="21600"/>
                </a:lnTo>
                <a:close/>
              </a:path>
              <a:path fill="lightenLess" w="47337" h="21600">
                <a:moveTo>
                  <a:pt x="0" y="0"/>
                </a:moveTo>
                <a:lnTo>
                  <a:pt x="47337" y="0"/>
                </a:lnTo>
                <a:lnTo>
                  <a:pt x="45937" y="1400"/>
                </a:lnTo>
                <a:lnTo>
                  <a:pt x="1400" y="1400"/>
                </a:lnTo>
                <a:close/>
              </a:path>
              <a:path fill="darken" w="47337" h="21600">
                <a:moveTo>
                  <a:pt x="47337" y="0"/>
                </a:moveTo>
                <a:lnTo>
                  <a:pt x="47337" y="21600"/>
                </a:lnTo>
                <a:lnTo>
                  <a:pt x="45937" y="20200"/>
                </a:lnTo>
                <a:lnTo>
                  <a:pt x="45937" y="1400"/>
                </a:lnTo>
                <a:close/>
              </a:path>
              <a:path fill="darkenLess" w="47337" h="21600">
                <a:moveTo>
                  <a:pt x="47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37" y="20200"/>
                </a:lnTo>
                <a:close/>
              </a:path>
              <a:path fill="lighten" w="47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Thomas Jefferso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ote the Declaration of Indepen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ted stuffy, formal mann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president who liked to be comfort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76920" y="5257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83200" y="4686480"/>
            <a:ext cx="15904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3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73" name="">
            <a:hlinkClick r:id="rId4" action="ppaction://hlinksldjump"/>
          </p:cNvPr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5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 Instructions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arrow to move to the next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animation on the page and try to guess which president it relates 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, click on the slide to bring up a picture of the correct president to help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rrow button to move on to the next sl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until you have answered all of the question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fu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65040" y="57150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3886200" y="571500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S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S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1640" y="182880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E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we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hir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our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if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Six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Seven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2" action="ppaction://hlinksldjump"/>
          </p:cNvPr>
          <p:cNvSpPr/>
          <p:nvPr/>
        </p:nvSpPr>
        <p:spPr>
          <a:xfrm>
            <a:off x="685800" y="1752480"/>
            <a:ext cx="2819520" cy="381240"/>
          </a:xfrm>
          <a:custGeom>
            <a:avLst/>
            <a:gdLst>
              <a:gd name="textAreaLeft" fmla="*/ 24480 w 2819520"/>
              <a:gd name="textAreaRight" fmla="*/ 2795040 w 2819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9616" h="21600">
                <a:moveTo>
                  <a:pt x="0" y="0"/>
                </a:moveTo>
                <a:lnTo>
                  <a:pt x="159616" y="0"/>
                </a:lnTo>
                <a:lnTo>
                  <a:pt x="159616" y="21600"/>
                </a:lnTo>
                <a:lnTo>
                  <a:pt x="0" y="21600"/>
                </a:lnTo>
                <a:close/>
              </a:path>
              <a:path fill="lightenLess" w="159616" h="21600">
                <a:moveTo>
                  <a:pt x="0" y="0"/>
                </a:moveTo>
                <a:lnTo>
                  <a:pt x="159616" y="0"/>
                </a:lnTo>
                <a:lnTo>
                  <a:pt x="158216" y="1400"/>
                </a:lnTo>
                <a:lnTo>
                  <a:pt x="1400" y="1400"/>
                </a:lnTo>
                <a:close/>
              </a:path>
              <a:path fill="darken" w="159616" h="21600">
                <a:moveTo>
                  <a:pt x="159616" y="0"/>
                </a:moveTo>
                <a:lnTo>
                  <a:pt x="159616" y="21600"/>
                </a:lnTo>
                <a:lnTo>
                  <a:pt x="158216" y="20200"/>
                </a:lnTo>
                <a:lnTo>
                  <a:pt x="158216" y="1400"/>
                </a:lnTo>
                <a:close/>
              </a:path>
              <a:path fill="darkenLess" w="159616" h="21600">
                <a:moveTo>
                  <a:pt x="159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8216" y="20200"/>
                </a:lnTo>
                <a:close/>
              </a:path>
              <a:path fill="lighten" w="159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>
            <a:hlinkClick r:id="rId3" action="ppaction://hlinksldjump"/>
          </p:cNvPr>
          <p:cNvSpPr/>
          <p:nvPr/>
        </p:nvSpPr>
        <p:spPr>
          <a:xfrm>
            <a:off x="685800" y="2286000"/>
            <a:ext cx="2819520" cy="304920"/>
          </a:xfrm>
          <a:custGeom>
            <a:avLst/>
            <a:gdLst>
              <a:gd name="textAreaLeft" fmla="*/ 19440 w 2819520"/>
              <a:gd name="textAreaRight" fmla="*/ 2800080 w 2819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99520" h="21600">
                <a:moveTo>
                  <a:pt x="0" y="0"/>
                </a:moveTo>
                <a:lnTo>
                  <a:pt x="199520" y="0"/>
                </a:lnTo>
                <a:lnTo>
                  <a:pt x="199520" y="21600"/>
                </a:lnTo>
                <a:lnTo>
                  <a:pt x="0" y="21600"/>
                </a:lnTo>
                <a:close/>
              </a:path>
              <a:path fill="lightenLess" w="199520" h="21600">
                <a:moveTo>
                  <a:pt x="0" y="0"/>
                </a:moveTo>
                <a:lnTo>
                  <a:pt x="199520" y="0"/>
                </a:lnTo>
                <a:lnTo>
                  <a:pt x="198120" y="1400"/>
                </a:lnTo>
                <a:lnTo>
                  <a:pt x="1400" y="1400"/>
                </a:lnTo>
                <a:close/>
              </a:path>
              <a:path fill="darken" w="199520" h="21600">
                <a:moveTo>
                  <a:pt x="199520" y="0"/>
                </a:moveTo>
                <a:lnTo>
                  <a:pt x="199520" y="21600"/>
                </a:lnTo>
                <a:lnTo>
                  <a:pt x="198120" y="20200"/>
                </a:lnTo>
                <a:lnTo>
                  <a:pt x="198120" y="1400"/>
                </a:lnTo>
                <a:close/>
              </a:path>
              <a:path fill="darkenLess" w="199520" h="21600">
                <a:moveTo>
                  <a:pt x="1995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120" y="20200"/>
                </a:lnTo>
                <a:close/>
              </a:path>
              <a:path fill="lighten" w="1995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4" action="ppaction://hlinksldjump"/>
          </p:cNvPr>
          <p:cNvSpPr/>
          <p:nvPr/>
        </p:nvSpPr>
        <p:spPr>
          <a:xfrm>
            <a:off x="685800" y="2819520"/>
            <a:ext cx="3252960" cy="380880"/>
          </a:xfrm>
          <a:custGeom>
            <a:avLst/>
            <a:gdLst>
              <a:gd name="textAreaLeft" fmla="*/ 24480 w 3252960"/>
              <a:gd name="textAreaRight" fmla="*/ 3228480 w 3252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84324" h="21600">
                <a:moveTo>
                  <a:pt x="0" y="0"/>
                </a:moveTo>
                <a:lnTo>
                  <a:pt x="184324" y="0"/>
                </a:lnTo>
                <a:lnTo>
                  <a:pt x="184324" y="21600"/>
                </a:lnTo>
                <a:lnTo>
                  <a:pt x="0" y="21600"/>
                </a:lnTo>
                <a:close/>
              </a:path>
              <a:path fill="lightenLess" w="184324" h="21600">
                <a:moveTo>
                  <a:pt x="0" y="0"/>
                </a:moveTo>
                <a:lnTo>
                  <a:pt x="184324" y="0"/>
                </a:lnTo>
                <a:lnTo>
                  <a:pt x="182924" y="1400"/>
                </a:lnTo>
                <a:lnTo>
                  <a:pt x="1400" y="1400"/>
                </a:lnTo>
                <a:close/>
              </a:path>
              <a:path fill="darken" w="184324" h="21600">
                <a:moveTo>
                  <a:pt x="184324" y="0"/>
                </a:moveTo>
                <a:lnTo>
                  <a:pt x="184324" y="21600"/>
                </a:lnTo>
                <a:lnTo>
                  <a:pt x="182924" y="20200"/>
                </a:lnTo>
                <a:lnTo>
                  <a:pt x="182924" y="1400"/>
                </a:lnTo>
                <a:close/>
              </a:path>
              <a:path fill="darkenLess" w="184324" h="21600">
                <a:moveTo>
                  <a:pt x="184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2924" y="20200"/>
                </a:lnTo>
                <a:close/>
              </a:path>
              <a:path fill="lighten" w="184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5" action="ppaction://hlinksldjump"/>
          </p:cNvPr>
          <p:cNvSpPr/>
          <p:nvPr/>
        </p:nvSpPr>
        <p:spPr>
          <a:xfrm>
            <a:off x="685800" y="3276720"/>
            <a:ext cx="2895480" cy="380880"/>
          </a:xfrm>
          <a:custGeom>
            <a:avLst/>
            <a:gdLst>
              <a:gd name="textAreaLeft" fmla="*/ 24480 w 2895480"/>
              <a:gd name="textAreaRight" fmla="*/ 2871000 w 2895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64070" h="21600">
                <a:moveTo>
                  <a:pt x="0" y="0"/>
                </a:moveTo>
                <a:lnTo>
                  <a:pt x="164070" y="0"/>
                </a:lnTo>
                <a:lnTo>
                  <a:pt x="164070" y="21600"/>
                </a:lnTo>
                <a:lnTo>
                  <a:pt x="0" y="21600"/>
                </a:lnTo>
                <a:close/>
              </a:path>
              <a:path fill="lightenLess" w="164070" h="21600">
                <a:moveTo>
                  <a:pt x="0" y="0"/>
                </a:moveTo>
                <a:lnTo>
                  <a:pt x="164070" y="0"/>
                </a:lnTo>
                <a:lnTo>
                  <a:pt x="162670" y="1400"/>
                </a:lnTo>
                <a:lnTo>
                  <a:pt x="1400" y="1400"/>
                </a:lnTo>
                <a:close/>
              </a:path>
              <a:path fill="darken" w="164070" h="21600">
                <a:moveTo>
                  <a:pt x="164070" y="0"/>
                </a:moveTo>
                <a:lnTo>
                  <a:pt x="164070" y="21600"/>
                </a:lnTo>
                <a:lnTo>
                  <a:pt x="162670" y="20200"/>
                </a:lnTo>
                <a:lnTo>
                  <a:pt x="162670" y="1400"/>
                </a:lnTo>
                <a:close/>
              </a:path>
              <a:path fill="darkenLess" w="164070" h="21600">
                <a:moveTo>
                  <a:pt x="164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2670" y="20200"/>
                </a:lnTo>
                <a:close/>
              </a:path>
              <a:path fill="lighten" w="164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rId6" action="ppaction://hlinksldjump"/>
          </p:cNvPr>
          <p:cNvSpPr/>
          <p:nvPr/>
        </p:nvSpPr>
        <p:spPr>
          <a:xfrm>
            <a:off x="685800" y="3809880"/>
            <a:ext cx="2666880" cy="381240"/>
          </a:xfrm>
          <a:custGeom>
            <a:avLst/>
            <a:gdLst>
              <a:gd name="textAreaLeft" fmla="*/ 24480 w 2666880"/>
              <a:gd name="textAreaRight" fmla="*/ 2642400 w 2666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0976" h="21600">
                <a:moveTo>
                  <a:pt x="0" y="0"/>
                </a:moveTo>
                <a:lnTo>
                  <a:pt x="150976" y="0"/>
                </a:lnTo>
                <a:lnTo>
                  <a:pt x="150976" y="21600"/>
                </a:lnTo>
                <a:lnTo>
                  <a:pt x="0" y="21600"/>
                </a:lnTo>
                <a:close/>
              </a:path>
              <a:path fill="lightenLess" w="150976" h="21600">
                <a:moveTo>
                  <a:pt x="0" y="0"/>
                </a:moveTo>
                <a:lnTo>
                  <a:pt x="150976" y="0"/>
                </a:lnTo>
                <a:lnTo>
                  <a:pt x="149576" y="1400"/>
                </a:lnTo>
                <a:lnTo>
                  <a:pt x="1400" y="1400"/>
                </a:lnTo>
                <a:close/>
              </a:path>
              <a:path fill="darken" w="150976" h="21600">
                <a:moveTo>
                  <a:pt x="150976" y="0"/>
                </a:moveTo>
                <a:lnTo>
                  <a:pt x="150976" y="21600"/>
                </a:lnTo>
                <a:lnTo>
                  <a:pt x="149576" y="20200"/>
                </a:lnTo>
                <a:lnTo>
                  <a:pt x="149576" y="1400"/>
                </a:lnTo>
                <a:close/>
              </a:path>
              <a:path fill="darkenLess" w="150976" h="21600">
                <a:moveTo>
                  <a:pt x="150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576" y="20200"/>
                </a:lnTo>
                <a:close/>
              </a:path>
              <a:path fill="lighten" w="150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7" action="ppaction://hlinksldjump"/>
          </p:cNvPr>
          <p:cNvSpPr/>
          <p:nvPr/>
        </p:nvSpPr>
        <p:spPr>
          <a:xfrm>
            <a:off x="685800" y="4343400"/>
            <a:ext cx="2514600" cy="380880"/>
          </a:xfrm>
          <a:custGeom>
            <a:avLst/>
            <a:gdLst>
              <a:gd name="textAreaLeft" fmla="*/ 24480 w 2514600"/>
              <a:gd name="textAreaRight" fmla="*/ 2490120 w 2514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42491" h="21600">
                <a:moveTo>
                  <a:pt x="0" y="0"/>
                </a:moveTo>
                <a:lnTo>
                  <a:pt x="142491" y="0"/>
                </a:lnTo>
                <a:lnTo>
                  <a:pt x="142491" y="21600"/>
                </a:lnTo>
                <a:lnTo>
                  <a:pt x="0" y="21600"/>
                </a:lnTo>
                <a:close/>
              </a:path>
              <a:path fill="lightenLess" w="142491" h="21600">
                <a:moveTo>
                  <a:pt x="0" y="0"/>
                </a:moveTo>
                <a:lnTo>
                  <a:pt x="142491" y="0"/>
                </a:lnTo>
                <a:lnTo>
                  <a:pt x="141091" y="1400"/>
                </a:lnTo>
                <a:lnTo>
                  <a:pt x="1400" y="1400"/>
                </a:lnTo>
                <a:close/>
              </a:path>
              <a:path fill="darken" w="142491" h="21600">
                <a:moveTo>
                  <a:pt x="142491" y="0"/>
                </a:moveTo>
                <a:lnTo>
                  <a:pt x="142491" y="21600"/>
                </a:lnTo>
                <a:lnTo>
                  <a:pt x="141091" y="20200"/>
                </a:lnTo>
                <a:lnTo>
                  <a:pt x="141091" y="1400"/>
                </a:lnTo>
                <a:close/>
              </a:path>
              <a:path fill="darkenLess" w="142491" h="21600">
                <a:moveTo>
                  <a:pt x="142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091" y="20200"/>
                </a:lnTo>
                <a:close/>
              </a:path>
              <a:path fill="lighten" w="142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8" action="ppaction://hlinksldjump"/>
          </p:cNvPr>
          <p:cNvSpPr/>
          <p:nvPr/>
        </p:nvSpPr>
        <p:spPr>
          <a:xfrm>
            <a:off x="685800" y="4876920"/>
            <a:ext cx="2971800" cy="304560"/>
          </a:xfrm>
          <a:custGeom>
            <a:avLst/>
            <a:gdLst>
              <a:gd name="textAreaLeft" fmla="*/ 19440 w 2971800"/>
              <a:gd name="textAreaRight" fmla="*/ 2952360 w 2971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0543" h="21600">
                <a:moveTo>
                  <a:pt x="0" y="0"/>
                </a:moveTo>
                <a:lnTo>
                  <a:pt x="210543" y="0"/>
                </a:lnTo>
                <a:lnTo>
                  <a:pt x="210543" y="21600"/>
                </a:lnTo>
                <a:lnTo>
                  <a:pt x="0" y="21600"/>
                </a:lnTo>
                <a:close/>
              </a:path>
              <a:path fill="lightenLess" w="210543" h="21600">
                <a:moveTo>
                  <a:pt x="0" y="0"/>
                </a:moveTo>
                <a:lnTo>
                  <a:pt x="210543" y="0"/>
                </a:lnTo>
                <a:lnTo>
                  <a:pt x="209143" y="1400"/>
                </a:lnTo>
                <a:lnTo>
                  <a:pt x="1400" y="1400"/>
                </a:lnTo>
                <a:close/>
              </a:path>
              <a:path fill="darken" w="210543" h="21600">
                <a:moveTo>
                  <a:pt x="210543" y="0"/>
                </a:moveTo>
                <a:lnTo>
                  <a:pt x="210543" y="21600"/>
                </a:lnTo>
                <a:lnTo>
                  <a:pt x="209143" y="20200"/>
                </a:lnTo>
                <a:lnTo>
                  <a:pt x="209143" y="1400"/>
                </a:lnTo>
                <a:close/>
              </a:path>
              <a:path fill="darkenLess" w="210543" h="21600">
                <a:moveTo>
                  <a:pt x="210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43" y="20200"/>
                </a:lnTo>
                <a:close/>
              </a:path>
              <a:path fill="lighten" w="210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9" action="ppaction://hlinksldjump"/>
          </p:cNvPr>
          <p:cNvSpPr/>
          <p:nvPr/>
        </p:nvSpPr>
        <p:spPr>
          <a:xfrm>
            <a:off x="685800" y="5334120"/>
            <a:ext cx="2819520" cy="457200"/>
          </a:xfrm>
          <a:custGeom>
            <a:avLst/>
            <a:gdLst>
              <a:gd name="textAreaLeft" fmla="*/ 29520 w 2819520"/>
              <a:gd name="textAreaRight" fmla="*/ 2790000 w 2819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3118" h="21600">
                <a:moveTo>
                  <a:pt x="0" y="0"/>
                </a:moveTo>
                <a:lnTo>
                  <a:pt x="133118" y="0"/>
                </a:lnTo>
                <a:lnTo>
                  <a:pt x="133118" y="21600"/>
                </a:lnTo>
                <a:lnTo>
                  <a:pt x="0" y="21600"/>
                </a:lnTo>
                <a:close/>
              </a:path>
              <a:path fill="lightenLess" w="133118" h="21600">
                <a:moveTo>
                  <a:pt x="0" y="0"/>
                </a:moveTo>
                <a:lnTo>
                  <a:pt x="133118" y="0"/>
                </a:lnTo>
                <a:lnTo>
                  <a:pt x="131718" y="1400"/>
                </a:lnTo>
                <a:lnTo>
                  <a:pt x="1400" y="1400"/>
                </a:lnTo>
                <a:close/>
              </a:path>
              <a:path fill="darken" w="133118" h="21600">
                <a:moveTo>
                  <a:pt x="133118" y="0"/>
                </a:moveTo>
                <a:lnTo>
                  <a:pt x="133118" y="21600"/>
                </a:lnTo>
                <a:lnTo>
                  <a:pt x="131718" y="20200"/>
                </a:lnTo>
                <a:lnTo>
                  <a:pt x="131718" y="1400"/>
                </a:lnTo>
                <a:close/>
              </a:path>
              <a:path fill="darkenLess" w="133118" h="21600">
                <a:moveTo>
                  <a:pt x="133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18" y="20200"/>
                </a:lnTo>
                <a:close/>
              </a:path>
              <a:path fill="lighten" w="133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10" action="ppaction://hlinksldjump"/>
          </p:cNvPr>
          <p:cNvSpPr/>
          <p:nvPr/>
        </p:nvSpPr>
        <p:spPr>
          <a:xfrm>
            <a:off x="685800" y="5867280"/>
            <a:ext cx="2743200" cy="381240"/>
          </a:xfrm>
          <a:custGeom>
            <a:avLst/>
            <a:gdLst>
              <a:gd name="textAreaLeft" fmla="*/ 24480 w 2743200"/>
              <a:gd name="textAreaRight" fmla="*/ 2718720 w 2743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5296" h="21600">
                <a:moveTo>
                  <a:pt x="0" y="0"/>
                </a:moveTo>
                <a:lnTo>
                  <a:pt x="155296" y="0"/>
                </a:lnTo>
                <a:lnTo>
                  <a:pt x="155296" y="21600"/>
                </a:lnTo>
                <a:lnTo>
                  <a:pt x="0" y="21600"/>
                </a:lnTo>
                <a:close/>
              </a:path>
              <a:path fill="lightenLess" w="155296" h="21600">
                <a:moveTo>
                  <a:pt x="0" y="0"/>
                </a:moveTo>
                <a:lnTo>
                  <a:pt x="155296" y="0"/>
                </a:lnTo>
                <a:lnTo>
                  <a:pt x="153896" y="1400"/>
                </a:lnTo>
                <a:lnTo>
                  <a:pt x="1400" y="1400"/>
                </a:lnTo>
                <a:close/>
              </a:path>
              <a:path fill="darken" w="155296" h="21600">
                <a:moveTo>
                  <a:pt x="155296" y="0"/>
                </a:moveTo>
                <a:lnTo>
                  <a:pt x="155296" y="21600"/>
                </a:lnTo>
                <a:lnTo>
                  <a:pt x="153896" y="20200"/>
                </a:lnTo>
                <a:lnTo>
                  <a:pt x="153896" y="1400"/>
                </a:lnTo>
                <a:close/>
              </a:path>
              <a:path fill="darkenLess" w="155296" h="21600">
                <a:moveTo>
                  <a:pt x="155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3896" y="20200"/>
                </a:lnTo>
                <a:close/>
              </a:path>
              <a:path fill="lighten" w="155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11" action="ppaction://hlinksldjump"/>
          </p:cNvPr>
          <p:cNvSpPr/>
          <p:nvPr/>
        </p:nvSpPr>
        <p:spPr>
          <a:xfrm>
            <a:off x="4572000" y="1905120"/>
            <a:ext cx="2643120" cy="457200"/>
          </a:xfrm>
          <a:custGeom>
            <a:avLst/>
            <a:gdLst>
              <a:gd name="textAreaLeft" fmla="*/ 29520 w 2643120"/>
              <a:gd name="textAreaRight" fmla="*/ 2613600 w 26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4791" h="21600">
                <a:moveTo>
                  <a:pt x="0" y="0"/>
                </a:moveTo>
                <a:lnTo>
                  <a:pt x="124791" y="0"/>
                </a:lnTo>
                <a:lnTo>
                  <a:pt x="124791" y="21600"/>
                </a:lnTo>
                <a:lnTo>
                  <a:pt x="0" y="21600"/>
                </a:lnTo>
                <a:close/>
              </a:path>
              <a:path fill="lightenLess" w="124791" h="21600">
                <a:moveTo>
                  <a:pt x="0" y="0"/>
                </a:moveTo>
                <a:lnTo>
                  <a:pt x="124791" y="0"/>
                </a:lnTo>
                <a:lnTo>
                  <a:pt x="123391" y="1400"/>
                </a:lnTo>
                <a:lnTo>
                  <a:pt x="1400" y="1400"/>
                </a:lnTo>
                <a:close/>
              </a:path>
              <a:path fill="darken" w="124791" h="21600">
                <a:moveTo>
                  <a:pt x="124791" y="0"/>
                </a:moveTo>
                <a:lnTo>
                  <a:pt x="124791" y="21600"/>
                </a:lnTo>
                <a:lnTo>
                  <a:pt x="123391" y="20200"/>
                </a:lnTo>
                <a:lnTo>
                  <a:pt x="123391" y="1400"/>
                </a:lnTo>
                <a:close/>
              </a:path>
              <a:path fill="darkenLess" w="124791" h="21600">
                <a:moveTo>
                  <a:pt x="12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391" y="20200"/>
                </a:lnTo>
                <a:close/>
              </a:path>
              <a:path fill="lighten" w="12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12" action="ppaction://hlinksldjump"/>
          </p:cNvPr>
          <p:cNvSpPr/>
          <p:nvPr/>
        </p:nvSpPr>
        <p:spPr>
          <a:xfrm>
            <a:off x="4572000" y="2438280"/>
            <a:ext cx="3124080" cy="381240"/>
          </a:xfrm>
          <a:custGeom>
            <a:avLst/>
            <a:gdLst>
              <a:gd name="textAreaLeft" fmla="*/ 24480 w 3124080"/>
              <a:gd name="textAreaRight" fmla="*/ 3099600 w 3124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6855" h="21600">
                <a:moveTo>
                  <a:pt x="0" y="0"/>
                </a:moveTo>
                <a:lnTo>
                  <a:pt x="176855" y="0"/>
                </a:lnTo>
                <a:lnTo>
                  <a:pt x="176855" y="21600"/>
                </a:lnTo>
                <a:lnTo>
                  <a:pt x="0" y="21600"/>
                </a:lnTo>
                <a:close/>
              </a:path>
              <a:path fill="lightenLess" w="176855" h="21600">
                <a:moveTo>
                  <a:pt x="0" y="0"/>
                </a:moveTo>
                <a:lnTo>
                  <a:pt x="176855" y="0"/>
                </a:lnTo>
                <a:lnTo>
                  <a:pt x="175455" y="1400"/>
                </a:lnTo>
                <a:lnTo>
                  <a:pt x="1400" y="1400"/>
                </a:lnTo>
                <a:close/>
              </a:path>
              <a:path fill="darken" w="176855" h="21600">
                <a:moveTo>
                  <a:pt x="176855" y="0"/>
                </a:moveTo>
                <a:lnTo>
                  <a:pt x="176855" y="21600"/>
                </a:lnTo>
                <a:lnTo>
                  <a:pt x="175455" y="20200"/>
                </a:lnTo>
                <a:lnTo>
                  <a:pt x="175455" y="1400"/>
                </a:lnTo>
                <a:close/>
              </a:path>
              <a:path fill="darkenLess" w="176855" h="21600">
                <a:moveTo>
                  <a:pt x="176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5455" y="20200"/>
                </a:lnTo>
                <a:close/>
              </a:path>
              <a:path fill="lighten" w="176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13" action="ppaction://hlinksldjump"/>
          </p:cNvPr>
          <p:cNvSpPr/>
          <p:nvPr/>
        </p:nvSpPr>
        <p:spPr>
          <a:xfrm>
            <a:off x="4572000" y="2971800"/>
            <a:ext cx="3200400" cy="304920"/>
          </a:xfrm>
          <a:custGeom>
            <a:avLst/>
            <a:gdLst>
              <a:gd name="textAreaLeft" fmla="*/ 19440 w 3200400"/>
              <a:gd name="textAreaRight" fmla="*/ 3180960 w 3200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6469" h="21600">
                <a:moveTo>
                  <a:pt x="0" y="0"/>
                </a:moveTo>
                <a:lnTo>
                  <a:pt x="226469" y="0"/>
                </a:lnTo>
                <a:lnTo>
                  <a:pt x="226469" y="21600"/>
                </a:lnTo>
                <a:lnTo>
                  <a:pt x="0" y="21600"/>
                </a:lnTo>
                <a:close/>
              </a:path>
              <a:path fill="lightenLess" w="226469" h="21600">
                <a:moveTo>
                  <a:pt x="0" y="0"/>
                </a:moveTo>
                <a:lnTo>
                  <a:pt x="226469" y="0"/>
                </a:lnTo>
                <a:lnTo>
                  <a:pt x="225069" y="1400"/>
                </a:lnTo>
                <a:lnTo>
                  <a:pt x="1400" y="1400"/>
                </a:lnTo>
                <a:close/>
              </a:path>
              <a:path fill="darken" w="226469" h="21600">
                <a:moveTo>
                  <a:pt x="226469" y="0"/>
                </a:moveTo>
                <a:lnTo>
                  <a:pt x="226469" y="21600"/>
                </a:lnTo>
                <a:lnTo>
                  <a:pt x="225069" y="20200"/>
                </a:lnTo>
                <a:lnTo>
                  <a:pt x="225069" y="1400"/>
                </a:lnTo>
                <a:close/>
              </a:path>
              <a:path fill="darkenLess" w="226469" h="21600">
                <a:moveTo>
                  <a:pt x="226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069" y="20200"/>
                </a:lnTo>
                <a:close/>
              </a:path>
              <a:path fill="lighten" w="226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4" action="ppaction://hlinksldjump"/>
          </p:cNvPr>
          <p:cNvSpPr/>
          <p:nvPr/>
        </p:nvSpPr>
        <p:spPr>
          <a:xfrm>
            <a:off x="4572000" y="3429000"/>
            <a:ext cx="3352680" cy="380880"/>
          </a:xfrm>
          <a:custGeom>
            <a:avLst/>
            <a:gdLst>
              <a:gd name="textAreaLeft" fmla="*/ 24480 w 3352680"/>
              <a:gd name="textAreaRight" fmla="*/ 3328200 w 3352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89974" h="21600">
                <a:moveTo>
                  <a:pt x="0" y="0"/>
                </a:moveTo>
                <a:lnTo>
                  <a:pt x="189974" y="0"/>
                </a:lnTo>
                <a:lnTo>
                  <a:pt x="189974" y="21600"/>
                </a:lnTo>
                <a:lnTo>
                  <a:pt x="0" y="21600"/>
                </a:lnTo>
                <a:close/>
              </a:path>
              <a:path fill="lightenLess" w="189974" h="21600">
                <a:moveTo>
                  <a:pt x="0" y="0"/>
                </a:moveTo>
                <a:lnTo>
                  <a:pt x="189974" y="0"/>
                </a:lnTo>
                <a:lnTo>
                  <a:pt x="188574" y="1400"/>
                </a:lnTo>
                <a:lnTo>
                  <a:pt x="1400" y="1400"/>
                </a:lnTo>
                <a:close/>
              </a:path>
              <a:path fill="darken" w="189974" h="21600">
                <a:moveTo>
                  <a:pt x="189974" y="0"/>
                </a:moveTo>
                <a:lnTo>
                  <a:pt x="189974" y="21600"/>
                </a:lnTo>
                <a:lnTo>
                  <a:pt x="188574" y="20200"/>
                </a:lnTo>
                <a:lnTo>
                  <a:pt x="188574" y="1400"/>
                </a:lnTo>
                <a:close/>
              </a:path>
              <a:path fill="darkenLess" w="189974" h="21600">
                <a:moveTo>
                  <a:pt x="189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8574" y="20200"/>
                </a:lnTo>
                <a:close/>
              </a:path>
              <a:path fill="lighten" w="189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5" action="ppaction://hlinksldjump"/>
          </p:cNvPr>
          <p:cNvSpPr/>
          <p:nvPr/>
        </p:nvSpPr>
        <p:spPr>
          <a:xfrm>
            <a:off x="4572000" y="3886200"/>
            <a:ext cx="3429000" cy="533520"/>
          </a:xfrm>
          <a:custGeom>
            <a:avLst/>
            <a:gdLst>
              <a:gd name="textAreaLeft" fmla="*/ 34560 w 3429000"/>
              <a:gd name="textAreaRight" fmla="*/ 3394440 w 3429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8747" h="21600">
                <a:moveTo>
                  <a:pt x="0" y="0"/>
                </a:moveTo>
                <a:lnTo>
                  <a:pt x="138747" y="0"/>
                </a:lnTo>
                <a:lnTo>
                  <a:pt x="138747" y="21600"/>
                </a:lnTo>
                <a:lnTo>
                  <a:pt x="0" y="21600"/>
                </a:lnTo>
                <a:close/>
              </a:path>
              <a:path fill="lightenLess" w="138747" h="21600">
                <a:moveTo>
                  <a:pt x="0" y="0"/>
                </a:moveTo>
                <a:lnTo>
                  <a:pt x="138747" y="0"/>
                </a:lnTo>
                <a:lnTo>
                  <a:pt x="137347" y="1400"/>
                </a:lnTo>
                <a:lnTo>
                  <a:pt x="1400" y="1400"/>
                </a:lnTo>
                <a:close/>
              </a:path>
              <a:path fill="darken" w="138747" h="21600">
                <a:moveTo>
                  <a:pt x="138747" y="0"/>
                </a:moveTo>
                <a:lnTo>
                  <a:pt x="138747" y="21600"/>
                </a:lnTo>
                <a:lnTo>
                  <a:pt x="137347" y="20200"/>
                </a:lnTo>
                <a:lnTo>
                  <a:pt x="137347" y="1400"/>
                </a:lnTo>
                <a:close/>
              </a:path>
              <a:path fill="darkenLess" w="138747" h="21600">
                <a:moveTo>
                  <a:pt x="138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347" y="20200"/>
                </a:lnTo>
                <a:close/>
              </a:path>
              <a:path fill="lighten" w="138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6" action="ppaction://hlinksldjump"/>
          </p:cNvPr>
          <p:cNvSpPr/>
          <p:nvPr/>
        </p:nvSpPr>
        <p:spPr>
          <a:xfrm>
            <a:off x="4648320" y="4495680"/>
            <a:ext cx="2971800" cy="304920"/>
          </a:xfrm>
          <a:custGeom>
            <a:avLst/>
            <a:gdLst>
              <a:gd name="textAreaLeft" fmla="*/ 19440 w 2971800"/>
              <a:gd name="textAreaRight" fmla="*/ 2952360 w 2971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0294" h="21600">
                <a:moveTo>
                  <a:pt x="0" y="0"/>
                </a:moveTo>
                <a:lnTo>
                  <a:pt x="210294" y="0"/>
                </a:lnTo>
                <a:lnTo>
                  <a:pt x="210294" y="21600"/>
                </a:lnTo>
                <a:lnTo>
                  <a:pt x="0" y="21600"/>
                </a:lnTo>
                <a:close/>
              </a:path>
              <a:path fill="lightenLess" w="210294" h="21600">
                <a:moveTo>
                  <a:pt x="0" y="0"/>
                </a:moveTo>
                <a:lnTo>
                  <a:pt x="210294" y="0"/>
                </a:lnTo>
                <a:lnTo>
                  <a:pt x="208894" y="1400"/>
                </a:lnTo>
                <a:lnTo>
                  <a:pt x="1400" y="1400"/>
                </a:lnTo>
                <a:close/>
              </a:path>
              <a:path fill="darken" w="210294" h="21600">
                <a:moveTo>
                  <a:pt x="210294" y="0"/>
                </a:moveTo>
                <a:lnTo>
                  <a:pt x="210294" y="21600"/>
                </a:lnTo>
                <a:lnTo>
                  <a:pt x="208894" y="20200"/>
                </a:lnTo>
                <a:lnTo>
                  <a:pt x="208894" y="1400"/>
                </a:lnTo>
                <a:close/>
              </a:path>
              <a:path fill="darkenLess" w="210294" h="21600">
                <a:moveTo>
                  <a:pt x="2102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894" y="20200"/>
                </a:lnTo>
                <a:close/>
              </a:path>
              <a:path fill="lighten" w="2102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rId17" action="ppaction://hlinksldjump"/>
          </p:cNvPr>
          <p:cNvSpPr/>
          <p:nvPr/>
        </p:nvSpPr>
        <p:spPr>
          <a:xfrm>
            <a:off x="4572000" y="5029200"/>
            <a:ext cx="3252960" cy="304920"/>
          </a:xfrm>
          <a:custGeom>
            <a:avLst/>
            <a:gdLst>
              <a:gd name="textAreaLeft" fmla="*/ 19440 w 3252960"/>
              <a:gd name="textAreaRight" fmla="*/ 3233520 w 32529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30188" h="21600">
                <a:moveTo>
                  <a:pt x="0" y="0"/>
                </a:moveTo>
                <a:lnTo>
                  <a:pt x="230188" y="0"/>
                </a:lnTo>
                <a:lnTo>
                  <a:pt x="230188" y="21600"/>
                </a:lnTo>
                <a:lnTo>
                  <a:pt x="0" y="21600"/>
                </a:lnTo>
                <a:close/>
              </a:path>
              <a:path fill="lightenLess" w="230188" h="21600">
                <a:moveTo>
                  <a:pt x="0" y="0"/>
                </a:moveTo>
                <a:lnTo>
                  <a:pt x="230188" y="0"/>
                </a:lnTo>
                <a:lnTo>
                  <a:pt x="228788" y="1400"/>
                </a:lnTo>
                <a:lnTo>
                  <a:pt x="1400" y="1400"/>
                </a:lnTo>
                <a:close/>
              </a:path>
              <a:path fill="darken" w="230188" h="21600">
                <a:moveTo>
                  <a:pt x="230188" y="0"/>
                </a:moveTo>
                <a:lnTo>
                  <a:pt x="230188" y="21600"/>
                </a:lnTo>
                <a:lnTo>
                  <a:pt x="228788" y="20200"/>
                </a:lnTo>
                <a:lnTo>
                  <a:pt x="228788" y="1400"/>
                </a:lnTo>
                <a:close/>
              </a:path>
              <a:path fill="darkenLess" w="230188" h="21600">
                <a:moveTo>
                  <a:pt x="230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8" y="20200"/>
                </a:lnTo>
                <a:close/>
              </a:path>
              <a:path fill="lighten" w="230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rId18" action="ppaction://hlinksldjump"/>
          </p:cNvPr>
          <p:cNvSpPr/>
          <p:nvPr/>
        </p:nvSpPr>
        <p:spPr>
          <a:xfrm>
            <a:off x="4572000" y="5562720"/>
            <a:ext cx="3733920" cy="380880"/>
          </a:xfrm>
          <a:custGeom>
            <a:avLst/>
            <a:gdLst>
              <a:gd name="textAreaLeft" fmla="*/ 24480 w 3733920"/>
              <a:gd name="textAreaRight" fmla="*/ 3709440 w 3733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74" h="21600">
                <a:moveTo>
                  <a:pt x="0" y="0"/>
                </a:moveTo>
                <a:lnTo>
                  <a:pt x="211574" y="0"/>
                </a:lnTo>
                <a:lnTo>
                  <a:pt x="211574" y="21600"/>
                </a:lnTo>
                <a:lnTo>
                  <a:pt x="0" y="21600"/>
                </a:lnTo>
                <a:close/>
              </a:path>
              <a:path fill="lightenLess" w="211574" h="21600">
                <a:moveTo>
                  <a:pt x="0" y="0"/>
                </a:moveTo>
                <a:lnTo>
                  <a:pt x="211574" y="0"/>
                </a:lnTo>
                <a:lnTo>
                  <a:pt x="210174" y="1400"/>
                </a:lnTo>
                <a:lnTo>
                  <a:pt x="1400" y="1400"/>
                </a:lnTo>
                <a:close/>
              </a:path>
              <a:path fill="darken" w="211574" h="21600">
                <a:moveTo>
                  <a:pt x="211574" y="0"/>
                </a:moveTo>
                <a:lnTo>
                  <a:pt x="211574" y="21600"/>
                </a:lnTo>
                <a:lnTo>
                  <a:pt x="210174" y="20200"/>
                </a:lnTo>
                <a:lnTo>
                  <a:pt x="210174" y="1400"/>
                </a:lnTo>
                <a:close/>
              </a:path>
              <a:path fill="darkenLess" w="211574" h="21600">
                <a:moveTo>
                  <a:pt x="211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74" y="20200"/>
                </a:lnTo>
                <a:close/>
              </a:path>
              <a:path fill="lighten" w="211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91520" y="60357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601992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Andrew Jackso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ght in many du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t in the ch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d “Old Hicko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th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had bullets for eyes and a rifle for a mou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419720" y="5410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33920" y="4800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1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41148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vin Cool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dore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2627280" cy="23335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981080" y="464832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410" name="">
            <a:hlinkClick r:id="rId5" action="ppaction://hlinksldjump"/>
          </p:cNvPr>
          <p:cNvSpPr/>
          <p:nvPr/>
        </p:nvSpPr>
        <p:spPr>
          <a:xfrm>
            <a:off x="4648320" y="259092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6" action="ppaction://hlinksldjump"/>
          </p:cNvPr>
          <p:cNvSpPr/>
          <p:nvPr/>
        </p:nvSpPr>
        <p:spPr>
          <a:xfrm>
            <a:off x="4572000" y="3657600"/>
            <a:ext cx="4038480" cy="609480"/>
          </a:xfrm>
          <a:custGeom>
            <a:avLst/>
            <a:gdLst>
              <a:gd name="textAreaLeft" fmla="*/ 39240 w 4038480"/>
              <a:gd name="textAreaRight" fmla="*/ 3999240 w 4038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43052" h="21600">
                <a:moveTo>
                  <a:pt x="0" y="0"/>
                </a:moveTo>
                <a:lnTo>
                  <a:pt x="143052" y="0"/>
                </a:lnTo>
                <a:lnTo>
                  <a:pt x="143052" y="21600"/>
                </a:lnTo>
                <a:lnTo>
                  <a:pt x="0" y="21600"/>
                </a:lnTo>
                <a:close/>
              </a:path>
              <a:path fill="lightenLess" w="143052" h="21600">
                <a:moveTo>
                  <a:pt x="0" y="0"/>
                </a:moveTo>
                <a:lnTo>
                  <a:pt x="143052" y="0"/>
                </a:lnTo>
                <a:lnTo>
                  <a:pt x="141652" y="1400"/>
                </a:lnTo>
                <a:lnTo>
                  <a:pt x="1400" y="1400"/>
                </a:lnTo>
                <a:close/>
              </a:path>
              <a:path fill="darken" w="143052" h="21600">
                <a:moveTo>
                  <a:pt x="143052" y="0"/>
                </a:moveTo>
                <a:lnTo>
                  <a:pt x="143052" y="21600"/>
                </a:lnTo>
                <a:lnTo>
                  <a:pt x="141652" y="20200"/>
                </a:lnTo>
                <a:lnTo>
                  <a:pt x="141652" y="1400"/>
                </a:lnTo>
                <a:close/>
              </a:path>
              <a:path fill="darkenLess" w="143052" h="21600">
                <a:moveTo>
                  <a:pt x="143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52" y="20200"/>
                </a:lnTo>
                <a:close/>
              </a:path>
              <a:path fill="lighten" w="143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mmy C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4038480"/>
            <a:ext cx="1828800" cy="1541520"/>
          </a:xfrm>
          <a:prstGeom prst="rect">
            <a:avLst/>
          </a:prstGeom>
          <a:ln w="0">
            <a:noFill/>
          </a:ln>
        </p:spPr>
      </p:pic>
      <p:sp>
        <p:nvSpPr>
          <p:cNvPr id="416" name="">
            <a:hlinkClick r:id="rId5" action="ppaction://hlinksldjump"/>
          </p:cNvPr>
          <p:cNvSpPr/>
          <p:nvPr/>
        </p:nvSpPr>
        <p:spPr>
          <a:xfrm>
            <a:off x="4800600" y="358128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rId6" action="ppaction://hlinksldjump"/>
          </p:cNvPr>
          <p:cNvSpPr/>
          <p:nvPr/>
        </p:nvSpPr>
        <p:spPr>
          <a:xfrm>
            <a:off x="4724280" y="2514600"/>
            <a:ext cx="3276720" cy="685800"/>
          </a:xfrm>
          <a:custGeom>
            <a:avLst/>
            <a:gdLst>
              <a:gd name="textAreaLeft" fmla="*/ 44280 w 3276720"/>
              <a:gd name="textAreaRight" fmla="*/ 3232440 w 3276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61" h="21600">
                <a:moveTo>
                  <a:pt x="0" y="0"/>
                </a:moveTo>
                <a:lnTo>
                  <a:pt x="103161" y="0"/>
                </a:lnTo>
                <a:lnTo>
                  <a:pt x="103161" y="21600"/>
                </a:lnTo>
                <a:lnTo>
                  <a:pt x="0" y="21600"/>
                </a:lnTo>
                <a:close/>
              </a:path>
              <a:path fill="lightenLess" w="103161" h="21600">
                <a:moveTo>
                  <a:pt x="0" y="0"/>
                </a:moveTo>
                <a:lnTo>
                  <a:pt x="103161" y="0"/>
                </a:lnTo>
                <a:lnTo>
                  <a:pt x="101761" y="1400"/>
                </a:lnTo>
                <a:lnTo>
                  <a:pt x="1400" y="1400"/>
                </a:lnTo>
                <a:close/>
              </a:path>
              <a:path fill="darken" w="103161" h="21600">
                <a:moveTo>
                  <a:pt x="103161" y="0"/>
                </a:moveTo>
                <a:lnTo>
                  <a:pt x="103161" y="21600"/>
                </a:lnTo>
                <a:lnTo>
                  <a:pt x="101761" y="20200"/>
                </a:lnTo>
                <a:lnTo>
                  <a:pt x="101761" y="1400"/>
                </a:lnTo>
                <a:close/>
              </a:path>
              <a:path fill="darkenLess" w="103161" h="21600">
                <a:moveTo>
                  <a:pt x="10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61" y="20200"/>
                </a:lnTo>
                <a:close/>
              </a:path>
              <a:path fill="lighten" w="10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2306520" cy="16574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1523880" y="4114800"/>
            <a:ext cx="1828800" cy="1541520"/>
          </a:xfrm>
          <a:prstGeom prst="rect">
            <a:avLst/>
          </a:prstGeom>
          <a:ln w="0">
            <a:noFill/>
          </a:ln>
        </p:spPr>
      </p:pic>
      <p:sp>
        <p:nvSpPr>
          <p:cNvPr id="422" name="">
            <a:hlinkClick r:id="rId4" action="ppaction://hlinksldjump"/>
          </p:cNvPr>
          <p:cNvSpPr/>
          <p:nvPr/>
        </p:nvSpPr>
        <p:spPr>
          <a:xfrm>
            <a:off x="4724280" y="3505320"/>
            <a:ext cx="3810240" cy="685800"/>
          </a:xfrm>
          <a:custGeom>
            <a:avLst/>
            <a:gdLst>
              <a:gd name="textAreaLeft" fmla="*/ 44280 w 3810240"/>
              <a:gd name="textAreaRight" fmla="*/ 3765960 w 3810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56" h="21600">
                <a:moveTo>
                  <a:pt x="0" y="0"/>
                </a:moveTo>
                <a:lnTo>
                  <a:pt x="119956" y="0"/>
                </a:lnTo>
                <a:lnTo>
                  <a:pt x="119956" y="21600"/>
                </a:lnTo>
                <a:lnTo>
                  <a:pt x="0" y="21600"/>
                </a:lnTo>
                <a:close/>
              </a:path>
              <a:path fill="lightenLess" w="119956" h="21600">
                <a:moveTo>
                  <a:pt x="0" y="0"/>
                </a:moveTo>
                <a:lnTo>
                  <a:pt x="119956" y="0"/>
                </a:lnTo>
                <a:lnTo>
                  <a:pt x="118556" y="1400"/>
                </a:lnTo>
                <a:lnTo>
                  <a:pt x="1400" y="1400"/>
                </a:lnTo>
                <a:close/>
              </a:path>
              <a:path fill="darken" w="119956" h="21600">
                <a:moveTo>
                  <a:pt x="119956" y="0"/>
                </a:moveTo>
                <a:lnTo>
                  <a:pt x="119956" y="21600"/>
                </a:lnTo>
                <a:lnTo>
                  <a:pt x="118556" y="20200"/>
                </a:lnTo>
                <a:lnTo>
                  <a:pt x="118556" y="1400"/>
                </a:lnTo>
                <a:close/>
              </a:path>
              <a:path fill="darkenLess" w="119956" h="21600">
                <a:moveTo>
                  <a:pt x="119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56" y="20200"/>
                </a:lnTo>
                <a:close/>
              </a:path>
              <a:path fill="lighten" w="119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24280" y="2514600"/>
            <a:ext cx="3276720" cy="685800"/>
          </a:xfrm>
          <a:custGeom>
            <a:avLst/>
            <a:gdLst>
              <a:gd name="textAreaLeft" fmla="*/ 44280 w 3276720"/>
              <a:gd name="textAreaRight" fmla="*/ 3232440 w 3276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61" h="21600">
                <a:moveTo>
                  <a:pt x="0" y="0"/>
                </a:moveTo>
                <a:lnTo>
                  <a:pt x="103161" y="0"/>
                </a:lnTo>
                <a:lnTo>
                  <a:pt x="103161" y="21600"/>
                </a:lnTo>
                <a:lnTo>
                  <a:pt x="0" y="21600"/>
                </a:lnTo>
                <a:close/>
              </a:path>
              <a:path fill="lightenLess" w="103161" h="21600">
                <a:moveTo>
                  <a:pt x="0" y="0"/>
                </a:moveTo>
                <a:lnTo>
                  <a:pt x="103161" y="0"/>
                </a:lnTo>
                <a:lnTo>
                  <a:pt x="101761" y="1400"/>
                </a:lnTo>
                <a:lnTo>
                  <a:pt x="1400" y="1400"/>
                </a:lnTo>
                <a:close/>
              </a:path>
              <a:path fill="darken" w="103161" h="21600">
                <a:moveTo>
                  <a:pt x="103161" y="0"/>
                </a:moveTo>
                <a:lnTo>
                  <a:pt x="103161" y="21600"/>
                </a:lnTo>
                <a:lnTo>
                  <a:pt x="101761" y="20200"/>
                </a:lnTo>
                <a:lnTo>
                  <a:pt x="101761" y="1400"/>
                </a:lnTo>
                <a:close/>
              </a:path>
              <a:path fill="darkenLess" w="103161" h="21600">
                <a:moveTo>
                  <a:pt x="10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61" y="20200"/>
                </a:lnTo>
                <a:close/>
              </a:path>
              <a:path fill="lighten" w="10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266720" y="1676520"/>
            <a:ext cx="441972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ld 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2932200" cy="17845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1295280" y="4114800"/>
            <a:ext cx="1981440" cy="1617840"/>
          </a:xfrm>
          <a:prstGeom prst="rect">
            <a:avLst/>
          </a:prstGeom>
          <a:ln w="0">
            <a:noFill/>
          </a:ln>
        </p:spPr>
      </p:pic>
      <p:sp>
        <p:nvSpPr>
          <p:cNvPr id="428" name="">
            <a:hlinkClick r:id="rId4" action="ppaction://hlinksldjump"/>
          </p:cNvPr>
          <p:cNvSpPr/>
          <p:nvPr/>
        </p:nvSpPr>
        <p:spPr>
          <a:xfrm>
            <a:off x="4267080" y="3962520"/>
            <a:ext cx="4114800" cy="685800"/>
          </a:xfrm>
          <a:custGeom>
            <a:avLst/>
            <a:gdLst>
              <a:gd name="textAreaLeft" fmla="*/ 44280 w 4114800"/>
              <a:gd name="textAreaRight" fmla="*/ 4070520 w 4114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9543" h="21600">
                <a:moveTo>
                  <a:pt x="0" y="0"/>
                </a:moveTo>
                <a:lnTo>
                  <a:pt x="129543" y="0"/>
                </a:lnTo>
                <a:lnTo>
                  <a:pt x="129543" y="21600"/>
                </a:lnTo>
                <a:lnTo>
                  <a:pt x="0" y="21600"/>
                </a:lnTo>
                <a:close/>
              </a:path>
              <a:path fill="lightenLess" w="129543" h="21600">
                <a:moveTo>
                  <a:pt x="0" y="0"/>
                </a:moveTo>
                <a:lnTo>
                  <a:pt x="129543" y="0"/>
                </a:lnTo>
                <a:lnTo>
                  <a:pt x="128143" y="1400"/>
                </a:lnTo>
                <a:lnTo>
                  <a:pt x="1400" y="1400"/>
                </a:lnTo>
                <a:close/>
              </a:path>
              <a:path fill="darken" w="129543" h="21600">
                <a:moveTo>
                  <a:pt x="129543" y="0"/>
                </a:moveTo>
                <a:lnTo>
                  <a:pt x="129543" y="21600"/>
                </a:lnTo>
                <a:lnTo>
                  <a:pt x="128143" y="20200"/>
                </a:lnTo>
                <a:lnTo>
                  <a:pt x="128143" y="1400"/>
                </a:lnTo>
                <a:close/>
              </a:path>
              <a:path fill="darkenLess" w="129543" h="21600">
                <a:moveTo>
                  <a:pt x="129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43" y="20200"/>
                </a:lnTo>
                <a:close/>
              </a:path>
              <a:path fill="lighten" w="129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2895480"/>
            <a:ext cx="3276360" cy="685800"/>
          </a:xfrm>
          <a:custGeom>
            <a:avLst/>
            <a:gdLst>
              <a:gd name="textAreaLeft" fmla="*/ 44280 w 3276360"/>
              <a:gd name="textAreaRight" fmla="*/ 3232080 w 3276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50" h="21600">
                <a:moveTo>
                  <a:pt x="0" y="0"/>
                </a:moveTo>
                <a:lnTo>
                  <a:pt x="103150" y="0"/>
                </a:lnTo>
                <a:lnTo>
                  <a:pt x="103150" y="21600"/>
                </a:lnTo>
                <a:lnTo>
                  <a:pt x="0" y="21600"/>
                </a:lnTo>
                <a:close/>
              </a:path>
              <a:path fill="lightenLess" w="103150" h="21600">
                <a:moveTo>
                  <a:pt x="0" y="0"/>
                </a:moveTo>
                <a:lnTo>
                  <a:pt x="103150" y="0"/>
                </a:lnTo>
                <a:lnTo>
                  <a:pt x="101750" y="1400"/>
                </a:lnTo>
                <a:lnTo>
                  <a:pt x="1400" y="1400"/>
                </a:lnTo>
                <a:close/>
              </a:path>
              <a:path fill="darken" w="103150" h="21600">
                <a:moveTo>
                  <a:pt x="103150" y="0"/>
                </a:moveTo>
                <a:lnTo>
                  <a:pt x="103150" y="21600"/>
                </a:lnTo>
                <a:lnTo>
                  <a:pt x="101750" y="20200"/>
                </a:lnTo>
                <a:lnTo>
                  <a:pt x="101750" y="1400"/>
                </a:lnTo>
                <a:close/>
              </a:path>
              <a:path fill="darkenLess" w="103150" h="21600">
                <a:moveTo>
                  <a:pt x="103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50" y="20200"/>
                </a:lnTo>
                <a:close/>
              </a:path>
              <a:path fill="lighten" w="103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klin D.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2063520" cy="1892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76520" y="4038480"/>
            <a:ext cx="1676160" cy="1467000"/>
          </a:xfrm>
          <a:prstGeom prst="rect">
            <a:avLst/>
          </a:prstGeom>
          <a:ln w="0">
            <a:noFill/>
          </a:ln>
        </p:spPr>
      </p:pic>
      <p:sp>
        <p:nvSpPr>
          <p:cNvPr id="434" name="">
            <a:hlinkClick r:id="rId5" action="ppaction://hlinksldjump"/>
          </p:cNvPr>
          <p:cNvSpPr/>
          <p:nvPr/>
        </p:nvSpPr>
        <p:spPr>
          <a:xfrm>
            <a:off x="4572000" y="2971800"/>
            <a:ext cx="3505320" cy="99072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6404" h="21600">
                <a:moveTo>
                  <a:pt x="0" y="0"/>
                </a:moveTo>
                <a:lnTo>
                  <a:pt x="76404" y="0"/>
                </a:lnTo>
                <a:lnTo>
                  <a:pt x="76404" y="21600"/>
                </a:lnTo>
                <a:lnTo>
                  <a:pt x="0" y="21600"/>
                </a:lnTo>
                <a:close/>
              </a:path>
              <a:path fill="lightenLess" w="76404" h="21600">
                <a:moveTo>
                  <a:pt x="0" y="0"/>
                </a:moveTo>
                <a:lnTo>
                  <a:pt x="76404" y="0"/>
                </a:lnTo>
                <a:lnTo>
                  <a:pt x="75004" y="1400"/>
                </a:lnTo>
                <a:lnTo>
                  <a:pt x="1400" y="1400"/>
                </a:lnTo>
                <a:close/>
              </a:path>
              <a:path fill="darken" w="76404" h="21600">
                <a:moveTo>
                  <a:pt x="76404" y="0"/>
                </a:moveTo>
                <a:lnTo>
                  <a:pt x="76404" y="21600"/>
                </a:lnTo>
                <a:lnTo>
                  <a:pt x="75004" y="20200"/>
                </a:lnTo>
                <a:lnTo>
                  <a:pt x="75004" y="1400"/>
                </a:lnTo>
                <a:close/>
              </a:path>
              <a:path fill="darkenLess" w="76404" h="21600">
                <a:moveTo>
                  <a:pt x="7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04" y="20200"/>
                </a:lnTo>
                <a:close/>
              </a:path>
              <a:path fill="lighten" w="7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48320" y="4419720"/>
            <a:ext cx="3276360" cy="685800"/>
          </a:xfrm>
          <a:custGeom>
            <a:avLst/>
            <a:gdLst>
              <a:gd name="textAreaLeft" fmla="*/ 44280 w 3276360"/>
              <a:gd name="textAreaRight" fmla="*/ 3232080 w 3276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50" h="21600">
                <a:moveTo>
                  <a:pt x="0" y="0"/>
                </a:moveTo>
                <a:lnTo>
                  <a:pt x="103150" y="0"/>
                </a:lnTo>
                <a:lnTo>
                  <a:pt x="103150" y="21600"/>
                </a:lnTo>
                <a:lnTo>
                  <a:pt x="0" y="21600"/>
                </a:lnTo>
                <a:close/>
              </a:path>
              <a:path fill="lightenLess" w="103150" h="21600">
                <a:moveTo>
                  <a:pt x="0" y="0"/>
                </a:moveTo>
                <a:lnTo>
                  <a:pt x="103150" y="0"/>
                </a:lnTo>
                <a:lnTo>
                  <a:pt x="101750" y="1400"/>
                </a:lnTo>
                <a:lnTo>
                  <a:pt x="1400" y="1400"/>
                </a:lnTo>
                <a:close/>
              </a:path>
              <a:path fill="darken" w="103150" h="21600">
                <a:moveTo>
                  <a:pt x="103150" y="0"/>
                </a:moveTo>
                <a:lnTo>
                  <a:pt x="103150" y="21600"/>
                </a:lnTo>
                <a:lnTo>
                  <a:pt x="101750" y="20200"/>
                </a:lnTo>
                <a:lnTo>
                  <a:pt x="101750" y="1400"/>
                </a:lnTo>
                <a:close/>
              </a:path>
              <a:path fill="darkenLess" w="103150" h="21600">
                <a:moveTo>
                  <a:pt x="103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50" y="20200"/>
                </a:lnTo>
                <a:close/>
              </a:path>
              <a:path fill="lighten" w="103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 Howard T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2116080" cy="20941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4419720"/>
            <a:ext cx="1752480" cy="153324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rId5" action="ppaction://hlinksldjump"/>
          </p:cNvPr>
          <p:cNvSpPr/>
          <p:nvPr/>
        </p:nvSpPr>
        <p:spPr>
          <a:xfrm>
            <a:off x="4648320" y="259092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00600" y="3962520"/>
            <a:ext cx="3505320" cy="685800"/>
          </a:xfrm>
          <a:custGeom>
            <a:avLst/>
            <a:gdLst>
              <a:gd name="textAreaLeft" fmla="*/ 44280 w 3505320"/>
              <a:gd name="textAreaRight" fmla="*/ 3461040 w 3505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0357" h="21600">
                <a:moveTo>
                  <a:pt x="0" y="0"/>
                </a:moveTo>
                <a:lnTo>
                  <a:pt x="110357" y="0"/>
                </a:lnTo>
                <a:lnTo>
                  <a:pt x="110357" y="21600"/>
                </a:lnTo>
                <a:lnTo>
                  <a:pt x="0" y="21600"/>
                </a:lnTo>
                <a:close/>
              </a:path>
              <a:path fill="lightenLess" w="110357" h="21600">
                <a:moveTo>
                  <a:pt x="0" y="0"/>
                </a:moveTo>
                <a:lnTo>
                  <a:pt x="110357" y="0"/>
                </a:lnTo>
                <a:lnTo>
                  <a:pt x="108957" y="1400"/>
                </a:lnTo>
                <a:lnTo>
                  <a:pt x="1400" y="1400"/>
                </a:lnTo>
                <a:close/>
              </a:path>
              <a:path fill="darken" w="110357" h="21600">
                <a:moveTo>
                  <a:pt x="110357" y="0"/>
                </a:moveTo>
                <a:lnTo>
                  <a:pt x="110357" y="21600"/>
                </a:lnTo>
                <a:lnTo>
                  <a:pt x="108957" y="20200"/>
                </a:lnTo>
                <a:lnTo>
                  <a:pt x="108957" y="1400"/>
                </a:lnTo>
                <a:close/>
              </a:path>
              <a:path fill="darkenLess" w="110357" h="21600">
                <a:moveTo>
                  <a:pt x="110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957" y="20200"/>
                </a:lnTo>
                <a:close/>
              </a:path>
              <a:path fill="lighten" w="110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Bu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l Cl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2281320" cy="20275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371600" y="4267080"/>
            <a:ext cx="1600200" cy="1400400"/>
          </a:xfrm>
          <a:prstGeom prst="rect">
            <a:avLst/>
          </a:prstGeom>
          <a:ln w="0">
            <a:noFill/>
          </a:ln>
        </p:spPr>
      </p:pic>
      <p:sp>
        <p:nvSpPr>
          <p:cNvPr id="446" name="">
            <a:hlinkClick r:id="rId5" action="ppaction://hlinksldjump"/>
          </p:cNvPr>
          <p:cNvSpPr/>
          <p:nvPr/>
        </p:nvSpPr>
        <p:spPr>
          <a:xfrm>
            <a:off x="4648320" y="259092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0" y="3505320"/>
            <a:ext cx="3276720" cy="685800"/>
          </a:xfrm>
          <a:custGeom>
            <a:avLst/>
            <a:gdLst>
              <a:gd name="textAreaLeft" fmla="*/ 44280 w 3276720"/>
              <a:gd name="textAreaRight" fmla="*/ 3232440 w 3276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61" h="21600">
                <a:moveTo>
                  <a:pt x="0" y="0"/>
                </a:moveTo>
                <a:lnTo>
                  <a:pt x="103161" y="0"/>
                </a:lnTo>
                <a:lnTo>
                  <a:pt x="103161" y="21600"/>
                </a:lnTo>
                <a:lnTo>
                  <a:pt x="0" y="21600"/>
                </a:lnTo>
                <a:close/>
              </a:path>
              <a:path fill="lightenLess" w="103161" h="21600">
                <a:moveTo>
                  <a:pt x="0" y="0"/>
                </a:moveTo>
                <a:lnTo>
                  <a:pt x="103161" y="0"/>
                </a:lnTo>
                <a:lnTo>
                  <a:pt x="101761" y="1400"/>
                </a:lnTo>
                <a:lnTo>
                  <a:pt x="1400" y="1400"/>
                </a:lnTo>
                <a:close/>
              </a:path>
              <a:path fill="darken" w="103161" h="21600">
                <a:moveTo>
                  <a:pt x="103161" y="0"/>
                </a:moveTo>
                <a:lnTo>
                  <a:pt x="103161" y="21600"/>
                </a:lnTo>
                <a:lnTo>
                  <a:pt x="101761" y="20200"/>
                </a:lnTo>
                <a:lnTo>
                  <a:pt x="101761" y="1400"/>
                </a:lnTo>
                <a:close/>
              </a:path>
              <a:path fill="darkenLess" w="103161" h="21600">
                <a:moveTo>
                  <a:pt x="10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61" y="20200"/>
                </a:lnTo>
                <a:close/>
              </a:path>
              <a:path fill="lighten" w="10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W.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2108160" cy="210816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47920" y="4038480"/>
            <a:ext cx="1904760" cy="1667160"/>
          </a:xfrm>
          <a:prstGeom prst="rect">
            <a:avLst/>
          </a:prstGeom>
          <a:ln w="0">
            <a:noFill/>
          </a:ln>
        </p:spPr>
      </p:pic>
      <p:sp>
        <p:nvSpPr>
          <p:cNvPr id="452" name="">
            <a:hlinkClick r:id="rId5" action="ppaction://hlinksldjump"/>
          </p:cNvPr>
          <p:cNvSpPr/>
          <p:nvPr/>
        </p:nvSpPr>
        <p:spPr>
          <a:xfrm>
            <a:off x="4800600" y="251460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24280" y="3505320"/>
            <a:ext cx="3276720" cy="685800"/>
          </a:xfrm>
          <a:custGeom>
            <a:avLst/>
            <a:gdLst>
              <a:gd name="textAreaLeft" fmla="*/ 44280 w 3276720"/>
              <a:gd name="textAreaRight" fmla="*/ 3232440 w 3276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61" h="21600">
                <a:moveTo>
                  <a:pt x="0" y="0"/>
                </a:moveTo>
                <a:lnTo>
                  <a:pt x="103161" y="0"/>
                </a:lnTo>
                <a:lnTo>
                  <a:pt x="103161" y="21600"/>
                </a:lnTo>
                <a:lnTo>
                  <a:pt x="0" y="21600"/>
                </a:lnTo>
                <a:close/>
              </a:path>
              <a:path fill="lightenLess" w="103161" h="21600">
                <a:moveTo>
                  <a:pt x="0" y="0"/>
                </a:moveTo>
                <a:lnTo>
                  <a:pt x="103161" y="0"/>
                </a:lnTo>
                <a:lnTo>
                  <a:pt x="101761" y="1400"/>
                </a:lnTo>
                <a:lnTo>
                  <a:pt x="1400" y="1400"/>
                </a:lnTo>
                <a:close/>
              </a:path>
              <a:path fill="darken" w="103161" h="21600">
                <a:moveTo>
                  <a:pt x="103161" y="0"/>
                </a:moveTo>
                <a:lnTo>
                  <a:pt x="103161" y="21600"/>
                </a:lnTo>
                <a:lnTo>
                  <a:pt x="101761" y="20200"/>
                </a:lnTo>
                <a:lnTo>
                  <a:pt x="101761" y="1400"/>
                </a:lnTo>
                <a:close/>
              </a:path>
              <a:path fill="darkenLess" w="103161" h="21600">
                <a:moveTo>
                  <a:pt x="10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61" y="20200"/>
                </a:lnTo>
                <a:close/>
              </a:path>
              <a:path fill="lighten" w="10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ld 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936800" cy="19368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47920" y="419112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458" name="">
            <a:hlinkClick r:id="rId5" action="ppaction://hlinksldjump"/>
          </p:cNvPr>
          <p:cNvSpPr/>
          <p:nvPr/>
        </p:nvSpPr>
        <p:spPr>
          <a:xfrm>
            <a:off x="4572000" y="358128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514600"/>
            <a:ext cx="3276720" cy="685800"/>
          </a:xfrm>
          <a:custGeom>
            <a:avLst/>
            <a:gdLst>
              <a:gd name="textAreaLeft" fmla="*/ 44280 w 3276720"/>
              <a:gd name="textAreaRight" fmla="*/ 3232440 w 3276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61" h="21600">
                <a:moveTo>
                  <a:pt x="0" y="0"/>
                </a:moveTo>
                <a:lnTo>
                  <a:pt x="103161" y="0"/>
                </a:lnTo>
                <a:lnTo>
                  <a:pt x="103161" y="21600"/>
                </a:lnTo>
                <a:lnTo>
                  <a:pt x="0" y="21600"/>
                </a:lnTo>
                <a:close/>
              </a:path>
              <a:path fill="lightenLess" w="103161" h="21600">
                <a:moveTo>
                  <a:pt x="0" y="0"/>
                </a:moveTo>
                <a:lnTo>
                  <a:pt x="103161" y="0"/>
                </a:lnTo>
                <a:lnTo>
                  <a:pt x="101761" y="1400"/>
                </a:lnTo>
                <a:lnTo>
                  <a:pt x="1400" y="1400"/>
                </a:lnTo>
                <a:close/>
              </a:path>
              <a:path fill="darken" w="103161" h="21600">
                <a:moveTo>
                  <a:pt x="103161" y="0"/>
                </a:moveTo>
                <a:lnTo>
                  <a:pt x="103161" y="21600"/>
                </a:lnTo>
                <a:lnTo>
                  <a:pt x="101761" y="20200"/>
                </a:lnTo>
                <a:lnTo>
                  <a:pt x="101761" y="1400"/>
                </a:lnTo>
                <a:close/>
              </a:path>
              <a:path fill="darkenLess" w="103161" h="21600">
                <a:moveTo>
                  <a:pt x="10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61" y="20200"/>
                </a:lnTo>
                <a:close/>
              </a:path>
              <a:path fill="lighten" w="10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F. Kenn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1936800" cy="18511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47920" y="4200480"/>
            <a:ext cx="1904760" cy="1666800"/>
          </a:xfrm>
          <a:prstGeom prst="rect">
            <a:avLst/>
          </a:prstGeom>
          <a:ln w="0">
            <a:noFill/>
          </a:ln>
        </p:spPr>
      </p:pic>
      <p:sp>
        <p:nvSpPr>
          <p:cNvPr id="464" name="">
            <a:hlinkClick r:id="rId5" action="ppaction://hlinksldjump"/>
          </p:cNvPr>
          <p:cNvSpPr/>
          <p:nvPr/>
        </p:nvSpPr>
        <p:spPr>
          <a:xfrm>
            <a:off x="4724280" y="251460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24280" y="350532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Abraham Lincol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d humor and didn’t take himself too seri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 the slaves by signing the Emancipation Procl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“Honest Ab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dressed in leather and had spiky hai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197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856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419112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F. Kenn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ld 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2514600" cy="23796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76520" y="4267080"/>
            <a:ext cx="1904760" cy="1667160"/>
          </a:xfrm>
          <a:prstGeom prst="rect">
            <a:avLst/>
          </a:prstGeom>
          <a:ln w="0">
            <a:noFill/>
          </a:ln>
        </p:spPr>
      </p:pic>
      <p:sp>
        <p:nvSpPr>
          <p:cNvPr id="470" name="">
            <a:hlinkClick r:id="rId5" action="ppaction://hlinksldjump"/>
          </p:cNvPr>
          <p:cNvSpPr/>
          <p:nvPr/>
        </p:nvSpPr>
        <p:spPr>
          <a:xfrm>
            <a:off x="4648320" y="259092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343400" y="3505320"/>
            <a:ext cx="3276720" cy="685800"/>
          </a:xfrm>
          <a:custGeom>
            <a:avLst/>
            <a:gdLst>
              <a:gd name="textAreaLeft" fmla="*/ 44280 w 3276720"/>
              <a:gd name="textAreaRight" fmla="*/ 3232440 w 3276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61" h="21600">
                <a:moveTo>
                  <a:pt x="0" y="0"/>
                </a:moveTo>
                <a:lnTo>
                  <a:pt x="103161" y="0"/>
                </a:lnTo>
                <a:lnTo>
                  <a:pt x="103161" y="21600"/>
                </a:lnTo>
                <a:lnTo>
                  <a:pt x="0" y="21600"/>
                </a:lnTo>
                <a:close/>
              </a:path>
              <a:path fill="lightenLess" w="103161" h="21600">
                <a:moveTo>
                  <a:pt x="0" y="0"/>
                </a:moveTo>
                <a:lnTo>
                  <a:pt x="103161" y="0"/>
                </a:lnTo>
                <a:lnTo>
                  <a:pt x="101761" y="1400"/>
                </a:lnTo>
                <a:lnTo>
                  <a:pt x="1400" y="1400"/>
                </a:lnTo>
                <a:close/>
              </a:path>
              <a:path fill="darken" w="103161" h="21600">
                <a:moveTo>
                  <a:pt x="103161" y="0"/>
                </a:moveTo>
                <a:lnTo>
                  <a:pt x="103161" y="21600"/>
                </a:lnTo>
                <a:lnTo>
                  <a:pt x="101761" y="20200"/>
                </a:lnTo>
                <a:lnTo>
                  <a:pt x="101761" y="1400"/>
                </a:lnTo>
                <a:close/>
              </a:path>
              <a:path fill="darkenLess" w="103161" h="21600">
                <a:moveTo>
                  <a:pt x="10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61" y="20200"/>
                </a:lnTo>
                <a:close/>
              </a:path>
              <a:path fill="lighten" w="10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343040" y="1676520"/>
            <a:ext cx="43434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dore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2044440" cy="21718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3962520"/>
            <a:ext cx="1905120" cy="1666800"/>
          </a:xfrm>
          <a:prstGeom prst="rect">
            <a:avLst/>
          </a:prstGeom>
          <a:ln w="0">
            <a:noFill/>
          </a:ln>
        </p:spPr>
      </p:pic>
      <p:sp>
        <p:nvSpPr>
          <p:cNvPr id="476" name="">
            <a:hlinkClick r:id="rId5" action="ppaction://hlinksldjump"/>
          </p:cNvPr>
          <p:cNvSpPr/>
          <p:nvPr/>
        </p:nvSpPr>
        <p:spPr>
          <a:xfrm>
            <a:off x="4191120" y="3505320"/>
            <a:ext cx="4267080" cy="685800"/>
          </a:xfrm>
          <a:custGeom>
            <a:avLst/>
            <a:gdLst>
              <a:gd name="textAreaLeft" fmla="*/ 44280 w 4267080"/>
              <a:gd name="textAreaRight" fmla="*/ 4222800 w 4267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34337" h="21600">
                <a:moveTo>
                  <a:pt x="0" y="0"/>
                </a:moveTo>
                <a:lnTo>
                  <a:pt x="134337" y="0"/>
                </a:lnTo>
                <a:lnTo>
                  <a:pt x="134337" y="21600"/>
                </a:lnTo>
                <a:lnTo>
                  <a:pt x="0" y="21600"/>
                </a:lnTo>
                <a:close/>
              </a:path>
              <a:path fill="lightenLess" w="134337" h="21600">
                <a:moveTo>
                  <a:pt x="0" y="0"/>
                </a:moveTo>
                <a:lnTo>
                  <a:pt x="134337" y="0"/>
                </a:lnTo>
                <a:lnTo>
                  <a:pt x="132937" y="1400"/>
                </a:lnTo>
                <a:lnTo>
                  <a:pt x="1400" y="1400"/>
                </a:lnTo>
                <a:close/>
              </a:path>
              <a:path fill="darken" w="134337" h="21600">
                <a:moveTo>
                  <a:pt x="134337" y="0"/>
                </a:moveTo>
                <a:lnTo>
                  <a:pt x="134337" y="21600"/>
                </a:lnTo>
                <a:lnTo>
                  <a:pt x="132937" y="20200"/>
                </a:lnTo>
                <a:lnTo>
                  <a:pt x="132937" y="1400"/>
                </a:lnTo>
                <a:close/>
              </a:path>
              <a:path fill="darkenLess" w="134337" h="21600">
                <a:moveTo>
                  <a:pt x="134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937" y="20200"/>
                </a:lnTo>
                <a:close/>
              </a:path>
              <a:path fill="lighten" w="134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343400" y="25146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419360" y="1676520"/>
            <a:ext cx="426708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52480" y="4314960"/>
            <a:ext cx="1828800" cy="1539720"/>
          </a:xfrm>
          <a:prstGeom prst="rect">
            <a:avLst/>
          </a:prstGeom>
          <a:ln w="0">
            <a:noFill/>
          </a:ln>
        </p:spPr>
      </p:pic>
      <p:sp>
        <p:nvSpPr>
          <p:cNvPr id="482" name="">
            <a:hlinkClick r:id="rId5" action="ppaction://hlinksldjump"/>
          </p:cNvPr>
          <p:cNvSpPr/>
          <p:nvPr/>
        </p:nvSpPr>
        <p:spPr>
          <a:xfrm>
            <a:off x="4267080" y="2590920"/>
            <a:ext cx="3810240" cy="685800"/>
          </a:xfrm>
          <a:custGeom>
            <a:avLst/>
            <a:gdLst>
              <a:gd name="textAreaLeft" fmla="*/ 44280 w 3810240"/>
              <a:gd name="textAreaRight" fmla="*/ 3765960 w 3810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56" h="21600">
                <a:moveTo>
                  <a:pt x="0" y="0"/>
                </a:moveTo>
                <a:lnTo>
                  <a:pt x="119956" y="0"/>
                </a:lnTo>
                <a:lnTo>
                  <a:pt x="119956" y="21600"/>
                </a:lnTo>
                <a:lnTo>
                  <a:pt x="0" y="21600"/>
                </a:lnTo>
                <a:close/>
              </a:path>
              <a:path fill="lightenLess" w="119956" h="21600">
                <a:moveTo>
                  <a:pt x="0" y="0"/>
                </a:moveTo>
                <a:lnTo>
                  <a:pt x="119956" y="0"/>
                </a:lnTo>
                <a:lnTo>
                  <a:pt x="118556" y="1400"/>
                </a:lnTo>
                <a:lnTo>
                  <a:pt x="1400" y="1400"/>
                </a:lnTo>
                <a:close/>
              </a:path>
              <a:path fill="darken" w="119956" h="21600">
                <a:moveTo>
                  <a:pt x="119956" y="0"/>
                </a:moveTo>
                <a:lnTo>
                  <a:pt x="119956" y="21600"/>
                </a:lnTo>
                <a:lnTo>
                  <a:pt x="118556" y="20200"/>
                </a:lnTo>
                <a:lnTo>
                  <a:pt x="118556" y="1400"/>
                </a:lnTo>
                <a:close/>
              </a:path>
              <a:path fill="darkenLess" w="119956" h="21600">
                <a:moveTo>
                  <a:pt x="119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56" y="20200"/>
                </a:lnTo>
                <a:close/>
              </a:path>
              <a:path fill="lighten" w="119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505320"/>
            <a:ext cx="4191120" cy="685800"/>
          </a:xfrm>
          <a:custGeom>
            <a:avLst/>
            <a:gdLst>
              <a:gd name="textAreaLeft" fmla="*/ 44280 w 4191120"/>
              <a:gd name="textAreaRight" fmla="*/ 4146840 w 4191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31946" h="21600">
                <a:moveTo>
                  <a:pt x="0" y="0"/>
                </a:moveTo>
                <a:lnTo>
                  <a:pt x="131946" y="0"/>
                </a:lnTo>
                <a:lnTo>
                  <a:pt x="131946" y="21600"/>
                </a:lnTo>
                <a:lnTo>
                  <a:pt x="0" y="21600"/>
                </a:lnTo>
                <a:close/>
              </a:path>
              <a:path fill="lightenLess" w="131946" h="21600">
                <a:moveTo>
                  <a:pt x="0" y="0"/>
                </a:moveTo>
                <a:lnTo>
                  <a:pt x="131946" y="0"/>
                </a:lnTo>
                <a:lnTo>
                  <a:pt x="130546" y="1400"/>
                </a:lnTo>
                <a:lnTo>
                  <a:pt x="1400" y="1400"/>
                </a:lnTo>
                <a:close/>
              </a:path>
              <a:path fill="darken" w="131946" h="21600">
                <a:moveTo>
                  <a:pt x="131946" y="0"/>
                </a:moveTo>
                <a:lnTo>
                  <a:pt x="131946" y="21600"/>
                </a:lnTo>
                <a:lnTo>
                  <a:pt x="130546" y="20200"/>
                </a:lnTo>
                <a:lnTo>
                  <a:pt x="130546" y="1400"/>
                </a:lnTo>
                <a:close/>
              </a:path>
              <a:path fill="darkenLess" w="131946" h="21600">
                <a:moveTo>
                  <a:pt x="131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546" y="20200"/>
                </a:lnTo>
                <a:close/>
              </a:path>
              <a:path fill="lighten" w="131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mmy C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2405160" cy="21067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4495680"/>
            <a:ext cx="1752480" cy="153360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rId5" action="ppaction://hlinksldjump"/>
          </p:cNvPr>
          <p:cNvSpPr/>
          <p:nvPr/>
        </p:nvSpPr>
        <p:spPr>
          <a:xfrm>
            <a:off x="4572000" y="350532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724280" y="2514600"/>
            <a:ext cx="3276720" cy="685800"/>
          </a:xfrm>
          <a:custGeom>
            <a:avLst/>
            <a:gdLst>
              <a:gd name="textAreaLeft" fmla="*/ 44280 w 3276720"/>
              <a:gd name="textAreaRight" fmla="*/ 3232440 w 3276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61" h="21600">
                <a:moveTo>
                  <a:pt x="0" y="0"/>
                </a:moveTo>
                <a:lnTo>
                  <a:pt x="103161" y="0"/>
                </a:lnTo>
                <a:lnTo>
                  <a:pt x="103161" y="21600"/>
                </a:lnTo>
                <a:lnTo>
                  <a:pt x="0" y="21600"/>
                </a:lnTo>
                <a:close/>
              </a:path>
              <a:path fill="lightenLess" w="103161" h="21600">
                <a:moveTo>
                  <a:pt x="0" y="0"/>
                </a:moveTo>
                <a:lnTo>
                  <a:pt x="103161" y="0"/>
                </a:lnTo>
                <a:lnTo>
                  <a:pt x="101761" y="1400"/>
                </a:lnTo>
                <a:lnTo>
                  <a:pt x="1400" y="1400"/>
                </a:lnTo>
                <a:close/>
              </a:path>
              <a:path fill="darken" w="103161" h="21600">
                <a:moveTo>
                  <a:pt x="103161" y="0"/>
                </a:moveTo>
                <a:lnTo>
                  <a:pt x="103161" y="21600"/>
                </a:lnTo>
                <a:lnTo>
                  <a:pt x="101761" y="20200"/>
                </a:lnTo>
                <a:lnTo>
                  <a:pt x="101761" y="1400"/>
                </a:lnTo>
                <a:close/>
              </a:path>
              <a:path fill="darkenLess" w="103161" h="21600">
                <a:moveTo>
                  <a:pt x="10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61" y="20200"/>
                </a:lnTo>
                <a:close/>
              </a:path>
              <a:path fill="lighten" w="10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41148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 Howard T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ysses S. 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2536920" cy="18604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76520" y="411480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rId5" action="ppaction://hlinksldjump"/>
          </p:cNvPr>
          <p:cNvSpPr/>
          <p:nvPr/>
        </p:nvSpPr>
        <p:spPr>
          <a:xfrm>
            <a:off x="4572000" y="3505320"/>
            <a:ext cx="3505320" cy="685800"/>
          </a:xfrm>
          <a:custGeom>
            <a:avLst/>
            <a:gdLst>
              <a:gd name="textAreaLeft" fmla="*/ 44280 w 3505320"/>
              <a:gd name="textAreaRight" fmla="*/ 3461040 w 3505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0357" h="21600">
                <a:moveTo>
                  <a:pt x="0" y="0"/>
                </a:moveTo>
                <a:lnTo>
                  <a:pt x="110357" y="0"/>
                </a:lnTo>
                <a:lnTo>
                  <a:pt x="110357" y="21600"/>
                </a:lnTo>
                <a:lnTo>
                  <a:pt x="0" y="21600"/>
                </a:lnTo>
                <a:close/>
              </a:path>
              <a:path fill="lightenLess" w="110357" h="21600">
                <a:moveTo>
                  <a:pt x="0" y="0"/>
                </a:moveTo>
                <a:lnTo>
                  <a:pt x="110357" y="0"/>
                </a:lnTo>
                <a:lnTo>
                  <a:pt x="108957" y="1400"/>
                </a:lnTo>
                <a:lnTo>
                  <a:pt x="1400" y="1400"/>
                </a:lnTo>
                <a:close/>
              </a:path>
              <a:path fill="darken" w="110357" h="21600">
                <a:moveTo>
                  <a:pt x="110357" y="0"/>
                </a:moveTo>
                <a:lnTo>
                  <a:pt x="110357" y="21600"/>
                </a:lnTo>
                <a:lnTo>
                  <a:pt x="108957" y="20200"/>
                </a:lnTo>
                <a:lnTo>
                  <a:pt x="108957" y="1400"/>
                </a:lnTo>
                <a:close/>
              </a:path>
              <a:path fill="darkenLess" w="110357" h="21600">
                <a:moveTo>
                  <a:pt x="110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957" y="20200"/>
                </a:lnTo>
                <a:close/>
              </a:path>
              <a:path fill="lighten" w="110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2514600"/>
            <a:ext cx="4267080" cy="685800"/>
          </a:xfrm>
          <a:custGeom>
            <a:avLst/>
            <a:gdLst>
              <a:gd name="textAreaLeft" fmla="*/ 44280 w 4267080"/>
              <a:gd name="textAreaRight" fmla="*/ 4222800 w 4267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34337" h="21600">
                <a:moveTo>
                  <a:pt x="0" y="0"/>
                </a:moveTo>
                <a:lnTo>
                  <a:pt x="134337" y="0"/>
                </a:lnTo>
                <a:lnTo>
                  <a:pt x="134337" y="21600"/>
                </a:lnTo>
                <a:lnTo>
                  <a:pt x="0" y="21600"/>
                </a:lnTo>
                <a:close/>
              </a:path>
              <a:path fill="lightenLess" w="134337" h="21600">
                <a:moveTo>
                  <a:pt x="0" y="0"/>
                </a:moveTo>
                <a:lnTo>
                  <a:pt x="134337" y="0"/>
                </a:lnTo>
                <a:lnTo>
                  <a:pt x="132937" y="1400"/>
                </a:lnTo>
                <a:lnTo>
                  <a:pt x="1400" y="1400"/>
                </a:lnTo>
                <a:close/>
              </a:path>
              <a:path fill="darken" w="134337" h="21600">
                <a:moveTo>
                  <a:pt x="134337" y="0"/>
                </a:moveTo>
                <a:lnTo>
                  <a:pt x="134337" y="21600"/>
                </a:lnTo>
                <a:lnTo>
                  <a:pt x="132937" y="20200"/>
                </a:lnTo>
                <a:lnTo>
                  <a:pt x="132937" y="1400"/>
                </a:lnTo>
                <a:close/>
              </a:path>
              <a:path fill="darkenLess" w="134337" h="21600">
                <a:moveTo>
                  <a:pt x="134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937" y="20200"/>
                </a:lnTo>
                <a:close/>
              </a:path>
              <a:path fill="lighten" w="134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1892160" cy="15382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52480" y="4191120"/>
            <a:ext cx="1752840" cy="1512720"/>
          </a:xfrm>
          <a:prstGeom prst="rect">
            <a:avLst/>
          </a:prstGeom>
          <a:ln w="0">
            <a:noFill/>
          </a:ln>
        </p:spPr>
      </p:pic>
      <p:sp>
        <p:nvSpPr>
          <p:cNvPr id="500" name="">
            <a:hlinkClick r:id="rId5" action="ppaction://hlinksldjump"/>
          </p:cNvPr>
          <p:cNvSpPr/>
          <p:nvPr/>
        </p:nvSpPr>
        <p:spPr>
          <a:xfrm>
            <a:off x="4648320" y="259092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48320" y="3505320"/>
            <a:ext cx="3504960" cy="685800"/>
          </a:xfrm>
          <a:custGeom>
            <a:avLst/>
            <a:gdLst>
              <a:gd name="textAreaLeft" fmla="*/ 44280 w 3504960"/>
              <a:gd name="textAreaRight" fmla="*/ 3460680 w 3504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0346" h="21600">
                <a:moveTo>
                  <a:pt x="0" y="0"/>
                </a:moveTo>
                <a:lnTo>
                  <a:pt x="110346" y="0"/>
                </a:lnTo>
                <a:lnTo>
                  <a:pt x="110346" y="21600"/>
                </a:lnTo>
                <a:lnTo>
                  <a:pt x="0" y="21600"/>
                </a:lnTo>
                <a:close/>
              </a:path>
              <a:path fill="lightenLess" w="110346" h="21600">
                <a:moveTo>
                  <a:pt x="0" y="0"/>
                </a:moveTo>
                <a:lnTo>
                  <a:pt x="110346" y="0"/>
                </a:lnTo>
                <a:lnTo>
                  <a:pt x="108946" y="1400"/>
                </a:lnTo>
                <a:lnTo>
                  <a:pt x="1400" y="1400"/>
                </a:lnTo>
                <a:close/>
              </a:path>
              <a:path fill="darken" w="110346" h="21600">
                <a:moveTo>
                  <a:pt x="110346" y="0"/>
                </a:moveTo>
                <a:lnTo>
                  <a:pt x="110346" y="21600"/>
                </a:lnTo>
                <a:lnTo>
                  <a:pt x="108946" y="20200"/>
                </a:lnTo>
                <a:lnTo>
                  <a:pt x="108946" y="1400"/>
                </a:lnTo>
                <a:close/>
              </a:path>
              <a:path fill="darkenLess" w="110346" h="21600">
                <a:moveTo>
                  <a:pt x="110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946" y="20200"/>
                </a:lnTo>
                <a:close/>
              </a:path>
              <a:path fill="lighten" w="110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l Cl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W.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2879640" cy="19666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52480" y="434340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rId5" action="ppaction://hlinksldjump"/>
          </p:cNvPr>
          <p:cNvSpPr/>
          <p:nvPr/>
        </p:nvSpPr>
        <p:spPr>
          <a:xfrm>
            <a:off x="4648320" y="259092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24280" y="3581280"/>
            <a:ext cx="3581640" cy="685800"/>
          </a:xfrm>
          <a:custGeom>
            <a:avLst/>
            <a:gdLst>
              <a:gd name="textAreaLeft" fmla="*/ 44280 w 3581640"/>
              <a:gd name="textAreaRight" fmla="*/ 3537360 w 3581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2760" h="21600">
                <a:moveTo>
                  <a:pt x="0" y="0"/>
                </a:moveTo>
                <a:lnTo>
                  <a:pt x="112760" y="0"/>
                </a:lnTo>
                <a:lnTo>
                  <a:pt x="112760" y="21600"/>
                </a:lnTo>
                <a:lnTo>
                  <a:pt x="0" y="21600"/>
                </a:lnTo>
                <a:close/>
              </a:path>
              <a:path fill="lightenLess" w="112760" h="21600">
                <a:moveTo>
                  <a:pt x="0" y="0"/>
                </a:moveTo>
                <a:lnTo>
                  <a:pt x="112760" y="0"/>
                </a:lnTo>
                <a:lnTo>
                  <a:pt x="111360" y="1400"/>
                </a:lnTo>
                <a:lnTo>
                  <a:pt x="1400" y="1400"/>
                </a:lnTo>
                <a:close/>
              </a:path>
              <a:path fill="darken" w="112760" h="21600">
                <a:moveTo>
                  <a:pt x="112760" y="0"/>
                </a:moveTo>
                <a:lnTo>
                  <a:pt x="112760" y="21600"/>
                </a:lnTo>
                <a:lnTo>
                  <a:pt x="111360" y="20200"/>
                </a:lnTo>
                <a:lnTo>
                  <a:pt x="111360" y="1400"/>
                </a:lnTo>
                <a:close/>
              </a:path>
              <a:path fill="darkenLess" w="112760" h="21600">
                <a:moveTo>
                  <a:pt x="112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60" y="20200"/>
                </a:lnTo>
                <a:close/>
              </a:path>
              <a:path fill="lighten" w="112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1295280" y="2438280"/>
            <a:ext cx="693432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You're Right!!!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2705040" cy="22543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28600"/>
            <a:ext cx="2514600" cy="20797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783840" y="510552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>
            <a:hlinkClick r:id="rId5" action="ppaction://hlinksldjump"/>
          </p:cNvPr>
          <p:cNvSpPr/>
          <p:nvPr/>
        </p:nvSpPr>
        <p:spPr>
          <a:xfrm>
            <a:off x="6629400" y="5029200"/>
            <a:ext cx="2286000" cy="1042920"/>
          </a:xfrm>
          <a:custGeom>
            <a:avLst/>
            <a:gdLst>
              <a:gd name="textAreaLeft" fmla="*/ 67320 w 2286000"/>
              <a:gd name="textAreaRight" fmla="*/ 2218680 w 2286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47337" h="21600">
                <a:moveTo>
                  <a:pt x="0" y="0"/>
                </a:moveTo>
                <a:lnTo>
                  <a:pt x="47337" y="0"/>
                </a:lnTo>
                <a:lnTo>
                  <a:pt x="47337" y="21600"/>
                </a:lnTo>
                <a:lnTo>
                  <a:pt x="0" y="21600"/>
                </a:lnTo>
                <a:close/>
              </a:path>
              <a:path fill="lightenLess" w="47337" h="21600">
                <a:moveTo>
                  <a:pt x="0" y="0"/>
                </a:moveTo>
                <a:lnTo>
                  <a:pt x="47337" y="0"/>
                </a:lnTo>
                <a:lnTo>
                  <a:pt x="45937" y="1400"/>
                </a:lnTo>
                <a:lnTo>
                  <a:pt x="1400" y="1400"/>
                </a:lnTo>
                <a:close/>
              </a:path>
              <a:path fill="darken" w="47337" h="21600">
                <a:moveTo>
                  <a:pt x="47337" y="0"/>
                </a:moveTo>
                <a:lnTo>
                  <a:pt x="47337" y="21600"/>
                </a:lnTo>
                <a:lnTo>
                  <a:pt x="45937" y="20200"/>
                </a:lnTo>
                <a:lnTo>
                  <a:pt x="45937" y="1400"/>
                </a:lnTo>
                <a:close/>
              </a:path>
              <a:path fill="darkenLess" w="47337" h="21600">
                <a:moveTo>
                  <a:pt x="47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37" y="20200"/>
                </a:lnTo>
                <a:close/>
              </a:path>
              <a:path fill="lighten" w="47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Ulysses S. Gran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enjoyed driving his carriage too fa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 general who led his army to a Civil War vi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th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dressed like a racecar dri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52880" y="4952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86200" y="4800600"/>
            <a:ext cx="1685880" cy="123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50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Theodore Roosevel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d to play with his children and have f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active person - war hero, Nobel peace prize winner, conservationist, and outdoor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th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who was doing many activities, like hunting and rowing a bo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8320" y="5486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4800600"/>
            <a:ext cx="1530360" cy="16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71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1828800" y="1600200"/>
            <a:ext cx="571968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ccff"/>
                    </a:gs>
                    <a:gs pos="50000">
                      <a:srgbClr val="ff0000"/>
                    </a:gs>
                    <a:gs pos="100000">
                      <a:srgbClr val="66ccff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ngratulat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ccff"/>
                  </a:gs>
                  <a:gs pos="50000">
                    <a:srgbClr val="ff0000"/>
                  </a:gs>
                  <a:gs pos="100000">
                    <a:srgbClr val="66ccff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ccff"/>
                    </a:gs>
                    <a:gs pos="50000">
                      <a:srgbClr val="ff0000"/>
                    </a:gs>
                    <a:gs pos="100000">
                      <a:srgbClr val="66ccff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You Did It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ccff"/>
                  </a:gs>
                  <a:gs pos="50000">
                    <a:srgbClr val="ff0000"/>
                  </a:gs>
                  <a:gs pos="100000">
                    <a:srgbClr val="66ccff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2"/>
          <a:srcRect l="15053" t="0" r="15053" b="0"/>
          <a:stretch/>
        </p:blipFill>
        <p:spPr>
          <a:xfrm>
            <a:off x="3809880" y="380988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redits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Presidents Are Mad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hhfi.org/tbdf/Portals/0/North%20Braddock/george-washington-pictur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UDr9KJdi9j7NTM:http://easyquestion.net/thinkagain/wp-content/uploads/2007/12/thomas-jefferson-pictur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TmquYF3LRhT61M:http://www.visitingdc.com/images/andrew-jackson-picture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dzRCwHuN7FGjKM:http://www.stab.org/faculty/klevin/Klevin/Web/Lincoln/lincoln4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HRxL_5opgyZO7M:http://static.howstuffworks.com/gif/ulysses-s-grant-national-historic-site-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redits Continued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bn0.google.com/images?q=tbn:nQi9p2yX-R20JM:http://www.awma.org/images/3theodore-roosevelt-pictur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a4medhy4Kg_CSM:http://upload.wikimedia.org/wikipedia/commons/thumb/8/86/William_Howard_Taft.jpg/463px-William_Howard_Taft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8cAFwp8I7RqHEM:http://www.michaelmcfadyenscuba.info/images/coolcalv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7ZjBBJncjzc7dM:http://upload.wikimedia.org/wikipedia/commons/thumb/a/ae/Franklin_Delano_Roosevelt_1933.png/607px-Franklin_Delano_Roosevelt_1933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xRY6_5CWUDM-TM:http://startupblog.files.wordpress.com/2007/11/jfk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2NK_i1RAe9tJwM:http://obits.eons.com/obits/tributes/richard_nixon/2395-2-photo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Y5K5LS58FljjmM:http://www.visitingdc.com/images/gerald-ford-pictur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redits Continued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-PkL-eHg85bgdM:http://upload.wikimedia.org/wikipedia/commons/thumb/4/4c/Jimmy_Carter.jpg/405px-Jimmy_Carter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AH9_hlsR_c_YJM:http://images.huffingtonpost.com/2007-09-08-RonaldReagan198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4umW7seZ4x5RgM:http://www.cooperativeresearch.org/events-images/202_george_bush_sr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mNEHfBkrTm3J6M:http://www.visitingdc.com/images/bill-clinton-pictur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gjhdxBrBc023cM:http://www.chrisabraham.com/President-George-W-Bush-Official-Portrait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mithsonian.kids.us/president/gallery/gallery1.cfm?section=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redits Continued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dobetutorialz.com/content_images/AdobePhotoshop/MICKM/RetroStars/star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mages.google.com/imgres?imgurl=http://bp1.blogger.com/_JmsnoOMVhh4/R0o9n4R2tSI/AAAAAAAAAZU/VUFo6CySiOs/s400/bsilvia_grunge_stars_photoshop_brush.jpg&amp;imgrefurl=http://graphics-illustrations.blogspot.com/2007/11/photoshop-brushes-free-download-grunge.html&amp;h=330&amp;w=400&amp;sz=45&amp;hl=en&amp;start=32&amp;um=1&amp;tbnid=5qER7Eqodd7JOM:&amp;tbnh=102&amp;tbnw=124&amp;prev=/images%3Fq%3Dstars%26start%3D18%26ndsp%3D18%26um%3D1%26hl%3Den%26sa%3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onoma.edu/pubs/nb/4_19_04/images/thumbsup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2:20:18Z</dcterms:created>
  <dc:creator>Help Desk</dc:creator>
  <dc:description/>
  <cp:keywords/>
  <dc:language>en-US</dc:language>
  <cp:lastModifiedBy>Julie Hranica</cp:lastModifiedBy>
  <cp:lastPrinted>1904-01-01T00:00:00Z</cp:lastPrinted>
  <dcterms:modified xsi:type="dcterms:W3CDTF">2008-03-25T21:36:11Z</dcterms:modified>
  <cp:revision>55</cp:revision>
  <dc:subject/>
  <dc:title>PowerPoint Presentation</dc:title>
</cp:coreProperties>
</file>